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488-BBA7-4D63-9358-F5BE7726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82B-0E15-477A-8801-F0A2EC91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83DE-BE6E-4F42-B50A-A915730A4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BBA-3A09-4424-95CF-1F39D8F46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BB7-E87C-4756-938F-0A764015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0D0-DAC0-4923-A95F-DECB8E05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F5F1-107F-4294-8D0B-C619405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5BF2-375C-4DBF-9928-AC934CCF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237A-2BE8-429D-B43C-AF5D16E7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3BE-6976-4E73-BE51-F0D5A93F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7CA-3B51-44B5-9A7D-27C42986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7D71-DD3E-4636-A63A-550F1FF8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E153-ACD8-4862-BC0C-6B239F1F3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DA0-D38F-40D7-B511-5978FB490029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ing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exerc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1CE5-BC53-431A-B967-5E8E9D6CCB3D}" type="slidenum">
              <a:t>10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 patter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quence is a set of numbers that follow a pattern or a r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3,  5,  7,  9, ......, .....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 9,  13,  17,  21, ......, .....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 6,  12,  24,  48, ......, .....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4,  9,  16,  25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53DE-5DE6-4A91-A337-A68DC38C7634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97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each sequence and add the nex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 9,  14,  19,  24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  93,  86,  79,  72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2,  4,  7,  11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99,  999,  9999,  99999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 1,  2,  3,  5,  8,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6,  128,  64,  32, ......, 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  Write the fir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 of the follow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s of 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s of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0CD-A65A-47AC-9876-067373A80593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and fill in the missing numb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 4, ......, 8,  10, ......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......, 10, ......, 16, 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......, ......, 32,  64, ......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, ......, 90,  85,  ......, .....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 9, ......, 4,  0,  ......, 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agram below forms a sequenc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the diagram and add the next two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how many balls are in each p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8000" y="5229360"/>
          <a:ext cx="4680000" cy="137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5229360"/>
                    <a:ext cx="4680000" cy="13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D26-0B31-48AF-9EC5-4892A0236AF6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Sequenc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sition-to-ter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ul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number in the sequence is determined by its position in th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a position-to-term rule is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ply the position by 5 and add 2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1 =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5 + 2 = 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2 = 2 × 5 + 2 = 1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3 = 3 × 5 + 2 = 1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4 = 4 × 5 + 2 = 2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5 = 5 × 5 + 2 = 2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• • • • • • • • • • • • • • • • •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rm n = n × 5 + 2 =&gt; 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5n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8BB-B6AD-455C-BEA7-9B230676D288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the first 5 terms of each sequenc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8n + 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5n - 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7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0 - 2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2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9 - 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h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 + 1)(n + 2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j) 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-n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k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 - 1)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) 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2n-1)(n +1)(n - 3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m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-1)/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n) 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(n+1)/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829-6DF6-41C2-8490-6B70D307650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low are four position-to-term rules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8 + 2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n(n+5)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out the first five terms of each of thes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quences.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ich rules giv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quences with the same first term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quences whose third term is 24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quences whose tenth term is great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an 1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9D6-C19E-4E53-8FAB-19B504A4DBC5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ing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linear sequence the terms go up or down by the same amount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 12, 15, 18, 21, 24, ...  goes up in 3s =&gt; linear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0, 95, 90, 85, 80, ... goes down in 5s =&gt;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find the nth term of a linear sequence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tract the first term from each term and put the results in a table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.g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 the nth term is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= 12 + 3(n-1) = 9 + 3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 for the other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4437000"/>
          <a:ext cx="6096240" cy="1366920"/>
        </p:xfrm>
        <a:graphic>
          <a:graphicData uri="http://schemas.openxmlformats.org/drawingml/2006/table">
            <a:tbl>
              <a:tblPr/>
              <a:tblGrid>
                <a:gridCol w="2232000"/>
                <a:gridCol w="647640"/>
                <a:gridCol w="648000"/>
                <a:gridCol w="649080"/>
                <a:gridCol w="647640"/>
                <a:gridCol w="648000"/>
                <a:gridCol w="6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74B-1F1A-4399-A6FC-D0E2DC9C2967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  Find the nth term, T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of each of these sequences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, 9, 14, 19, 24, .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b)  1, 3, 5, 7, 9, ..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c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, 12, 14, 16, 18, .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d)  1, 1.5, 2, 2.5, 3, ..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4, -2, 0, 2, 4, ..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f)   10, 17, 24, 31, 38, ..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g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ing up in 10s, starting from 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h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ing down in 4s from 75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unting down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¼ from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 Write five linear sequences of your own that each have a third term of 15.  Write the nth term for each one and then write the 100th term for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d the nth term of this sequenc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th term is 20,   6th term is 28,  7th term is 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835-0F8C-438A-A258-8F6E721133D9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2-06T12:30:50Z</dcterms:modified>
  <cp:revision>122</cp:revision>
  <dc:subject/>
  <dc:title>U4</dc:title>
</cp:coreProperties>
</file>