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7FA-B238-4597-9878-F37B3C79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2C9-500B-4B3F-90CD-73DA56B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B71-581B-493F-9610-EE255771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394-9990-4EF0-8E62-88E6A708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089-5E51-4003-8079-83D7E242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F05-5717-42A6-B1DE-05F6EF0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30E-8DC0-4241-8668-024BF17D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F27-366F-4623-A672-93A0631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23D-85EA-4D8A-99E6-42E0C01A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64D-491B-42EA-B6BC-4F23D3B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E83-F51C-4BB5-BB5E-7DBB804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2F2-CDDE-4E86-BE57-EBC9968A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E17-28A9-45DD-BFF9-E17A05768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wers and Ind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B43-14A7-442A-84CD-5D9062FCC8E4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x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 multiplication can be written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a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2 × 2 × 2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owers of the same number are multiplied together, the indices are ad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5 + 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owers of the same number are divided together, the indices are subtrac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7 - 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number (except 0) to the power 0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number to the power 1 is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EFB-4D14-48E8-92D3-AF466E449183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 Find the value of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Find, in index form, the values of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 Write each of these numbers as a prime n umber raised to a power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1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1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1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2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B3B-06D7-444B-9553-91024CF624B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 Write these numbers as products of their prime factors, using index notation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5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3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2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1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4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  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h) 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 Write the values of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19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(1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8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7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Simplify, giving the answer in index form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(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×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× 5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× 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D13-0291-453B-907A-E35E30993DD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Index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es can be fractions as well as whole number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½ + ½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×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= 5, 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=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general,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equal to 1/x for any value of x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reciprocal of x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,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eans 1/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the reciprocal of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general, when finding the power of a power, multiply the ind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80D-D0C0-4824-A3D9-DBDE90D5999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 Evaluate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36½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8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(92.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Simplify these expressions, in index form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(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) 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j) 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k)  {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12F-0E01-4E03-B3ED-C4DF2C2B9F8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B02-7508-477F-B6C6-FD1D48F5DF79}" type="slidenum">
              <a:t>7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1-23T10:56:48Z</dcterms:modified>
  <cp:revision>120</cp:revision>
  <dc:subject/>
  <dc:title>U4</dc:title>
</cp:coreProperties>
</file>