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3DB-EB10-41C2-B2B6-B74D0729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574-4C50-4899-9FC1-0565392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E12-E159-4AA6-A176-1A741AF3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6B7-18F7-4444-A214-9445304B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C05-1ABE-46C9-969A-8277615B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5D7-1270-40DD-951C-9E8C079F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56D-CF72-4B89-B73D-721E319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558-1E48-415F-9CA3-C9E4E4D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FEE-D5E5-4DF4-8AB1-9745030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D39-0014-4EEB-A0E9-820916F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13F-F6D7-4B9E-B411-E8B8A09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6C9-1ADC-4CCC-A7D1-7462978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727-E013-46E3-88CA-67D478EC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BCA-6D99-46B9-88C8-5EBFD5A6A69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ngles of a triangle are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x + 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x +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.  Find the angles of the tri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quare has sides of length 4x + 3.  A recta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 sides of 8x and 4x + 1.  They have the 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meter.  Find the dimensions of each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dul is 180cm tall and Mark is 10x ta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ce is 164cm tall and Miranda is 9x ta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in height between the two boys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l to the difference in height between the tw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rls.  How tall are Mark and Mir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8B5-8C4D-4CDD-8C90-87714E073AD2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s with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x      7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be solved with inverse operat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both sides by x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both sides by 7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7 = 3x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5 = 3x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AA-E1E0-45D5-BFF2-25585CD5D882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2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15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3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x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-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3 = 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= -1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4 = -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2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3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2x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x + 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x - 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y - 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x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2x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62D-5BB8-4DB5-A6AD-DEC67FD6218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lving an equation with brackets, expand the brackets firs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4(x + 2) = 7(x -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4x + 8 = 7x - 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8 = 3x -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4x from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5 = 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7 to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5 =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oth side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quation with a negative x term is easier to solve if this is processed fir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5 - 8x = 4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= 45 + 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8x to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8x = -4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262-1CAA-477A-88C9-01465FB2705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x - 9 = 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3x + 9  = 2x + 1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5p - 9 = 3p +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10 - 3t = 8t -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.  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3(2y - 1) = 4(7y + 6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2(3 - 8z) = 4(5 - 6z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3d - (9 - 7a) = 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6 - (3x - 9) = -2(5 -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. 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(x + 3)(x + 4) = (x + 7)(x - 2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(y - 7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y + 5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10 - 4x = 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18 = 17 - b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36 = 2(3 - 6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39F-AAC9-418B-A360-75DAE583B635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equations for these problems and solv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 think of a number, add 6 and then double the result.  This gives me the same answer as when I subtract 5 from the number and multiply the result by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 I think of a number, add 7 and square it.  This gives me the same answer as when I take 5 from the number and squar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 rectangle of sides (x + 11) and (x - 4) has the same area as a square of sides (x+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C75-C42F-4CCB-A2E8-145EA52CAF0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Solve the equation        7x - 9 = 3x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Solve the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 4(2x - 7) = 12 +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9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  Solve the equatio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 -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.(a)  Expand and simplify  2(3x - 2) + 4(x + 5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)  Solve the equation   2(3x - 2) + 4(x + 5) = 4(x -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.  In an isosceles triangle, two of the angles are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and x + 75°.  Find two possible values fo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889-95D5-47A0-956D-78C0C0E5B375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ous equation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quations that have the same solution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y = 8  and   x - y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solved by eliminating one of the unknow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rearrange x - y = 2 so that  x = 2 + 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n substituted into the other equ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x + y = 8  becomes 2 + y + y =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 2 + 2y =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 2y = 8 - 2 =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 y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ng into either equation gives x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AB0-8938-40C0-94E9-9C67A4DBC5BB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ous equation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rms in simultaneous equations are the same then one of the terms can be eliminated either by addition or subtr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y =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- y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these equations eliminates 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x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ng into either equation then gi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your choice which method you u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53A-AF24-4A95-9F96-F6D840B9226D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 these equations by addition or subtrac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x + y = 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(b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x + 2y = 6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x + y =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x + 2y = 2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+ 5y = 1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(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x + 2y = 16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+ 7y =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x + 2y = 4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20p - 4q = 3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(f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x - 2y = 1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7p + 4q = 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x + 4y = 23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x - 7y = 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(h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x + 3y = -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x + 7y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x + 3y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67E-7235-42D6-A81C-C12E01CE0050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ition, subtraction, multiplication and division are all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Operation 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.g.  subtraction is the inverse of addi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division is the inverse of multipli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operation acts on a number or a varia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.g. 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×3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3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17F-9249-4A74-B912-8E3BCD9F266A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taneous equations from these descriptions and then solv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lemons and 4 oranges cost £1.27 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oranges and 5 lemons cost £1.6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a lemon cos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ans of drink and 4 bars of chocolate cost £3.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1 can of drink and 4 bars of chocolate c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2.00.  How much does each item cos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umbers have a sum of 41 and a dif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7.  What are the two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675-468D-445C-896C-47523599734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number is 6 more than another.  Thei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is 20.  Calculate the numbers.</a:t>
            </a:r>
            <a:br>
              <a:rPr sz="2800"/>
            </a:br>
            <a:br>
              <a:rPr sz="1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isosceles triangle, the largest angle is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the sum of the equal angl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 the angles of the triangle?</a:t>
            </a:r>
            <a:br>
              <a:rPr sz="2800"/>
            </a:b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30 students and 29 staff go on a school trip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use a mixture of large and small coach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large coach has 55 seats and a small one 39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coaches are used and there are no spare s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of each coach ar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54D-A4FB-4E5F-8C37-A28C2441C64E}" type="slidenum">
              <a:t>21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wo or more operations act on a variable then you do their inverse operations in reverse order to get back to the original valu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.g.  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×2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2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-5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2x -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x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2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+5]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2x -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046-4B4F-4FB8-9F5E-368EA53123F9}" type="slidenum">
              <a:t>3</a:t>
            </a:fld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 Find the value of each let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×3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-7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.    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Find the value of each let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square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×2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.   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4DD-A61C-406C-8C91-2FB6A20F0AA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Write the operations in each case and then using inverse operations, find the starting numb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I think of a number, subtract 8 and square roo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nswer is 5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I think of a number, multiply by 2, subtract 4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square it.  The answer is 36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I think of a number, double it and subtract 4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nswer is 7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I think of a number, square it and multiply by 3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nswer is 75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I think of a number, add 11, cube root it and add 1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nswer is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C69-1DAB-49EA-8CF2-97B1A5BEAD4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one-side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quation is a statement with an equals sig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2x - 4 = 18 is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 equation, do the s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both s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 - 4 = 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4 to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 = 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de both sides by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x =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 Solve these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.  3x - 7 =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.  4(x - 1) = 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.  ½x + 8 = 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).  2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9) = 6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). 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4 =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).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 - 1 = 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)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x -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)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 -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A48-7796-48B2-B1A7-D95F9394C14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ctangle has sides of 3x + 1 and x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a labelled diagram of the rectang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perimeter is 34cm, find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ctangle has sides of 2x + 6 and 5 - x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a labelled diagram of the rectang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perimeter is 30cm, find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 A right angled triangle has sides of x-1, x and x+1. Draw a labelled diagram of the triang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 the perimeter is 12cm, find the length of the sides of the tri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2DE-5366-4E94-BFC5-184E3AF5A67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-side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have unknowns on both sides of the equals sig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5x -3 = 3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double sided equation, subtract the smaller algebraic term from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x -3 = 3x +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tract 3x from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2x - 3 =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now one-sid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inverse ope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3 to both sid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2x -3 +3 = 1 +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2x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de by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33D-D89A-4D32-8BC4-B9CE4D57C70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 these equation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2x + 4 = x +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10 - 3x = 7x - 10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8 - 3x = 5 - 2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4(7 + 2z) = 15 - 8z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6a - 2 = 2a +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1 - 4c = 2 - 8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 Write an equation and solve it to find the starting number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I think of a number, multiply it by 8 and subtract 2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get the same answer when I multiply the numb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 and add 10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Taking double a number from 11 is the same 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ing treble that number from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CD8-29D9-4772-BB40-3C3C2564A1D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3-20T09:23:45Z</dcterms:modified>
  <cp:revision>127</cp:revision>
  <dc:subject/>
  <dc:title>U4</dc:title>
</cp:coreProperties>
</file>