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523-A6B5-4E2C-8D0F-FEF7BE0D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06C-CF18-4189-980F-FD69992D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F4C-DE57-4E27-A01D-A3AAFAE1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FEE-8C27-405E-B633-6BEA4B19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C48-B856-46D8-8383-13C83D71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9ED-D3E8-4281-A04E-4E769E8F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CDB-3730-4767-8C3E-ADB82ECD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B04-8A9C-43BA-9910-9DCE3020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B80-D4C2-4731-B586-8D914D02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80F-A4B5-41B4-AFDE-74BAC181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48F-99C3-4A5E-AB97-8D0385A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E23-49BA-44C5-86D9-F37C631B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85C3-35CA-4B0B-B921-70380C857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ctors and Pri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607-05BD-4C59-91F8-16A1832FE94B}" type="slidenum">
              <a:t>1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 component of 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umber is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umber is a number which only has two factors - itself and 1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7 = 7 ×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st the first 20 prim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, 2, 3, 5, 7, 11, 13, 17, 19, 23, 29, 31, 37, 41, 43, 47, 53, 59, 61, 67, 71, 7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8CF-31FA-4B12-8A7A-8D487B7A0976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me Fact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number greater than 1 can be written as a unique product of its prime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me Factor De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numb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56 = 2 × 2 × 2 × 7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 trees are a way to find factors systematicall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&gt;  84 = 2 × 2 × 3 × 7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 ×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487-A768-4475-8C30-5516E9A0235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prime factors using factor trees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umber, find the prime factors and write it as the product of powers of its prime fac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 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 1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 3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  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  4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  9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105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)  25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)  63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)  8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)  1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)  1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421-BE02-4229-BB0D-580E5F5D7E5F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st common 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CF) of two numbers is the largest number that is a factor of both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HCF of two number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ll the factors of each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largest factor that is in both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the HCF of 12 and 1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of 12 are 1, 2, 3, 4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of 18 are 1, 2, 3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9,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The HCF of 12 and 18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CF of  (a)  28 and 36,  (b)  14 and 35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 50 and 70,  (d)  42 and 56,  (e)  60 and 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B93-D85C-4090-9910-9DCAC0769551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 common 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CM) of two numbers is the smallest number that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the LCM of two numbers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first few multiples of each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mallest multiple that is in both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LCM of 12 and 1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s of 12 are  12, 24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8, 6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s of 18 are  18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4, 7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CM of 12 and 18 is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LCM of  (a)  4 and 5,  (b)  6 and 8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 5 and 30,  (d)  14 and 35,  (e)  8 an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6E2-8F8C-4BB9-9393-DCAB1727E90C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 diagram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Venn diagram is a way of representing groups of numbers and can be used to find the HCF and LCM of pairs of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find the HCF and LCM of 36 and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ime factors for 36 a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ime factors for 28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on factors are in the 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4005360"/>
          <a:ext cx="576108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005360"/>
                    <a:ext cx="57610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EC0-D9D6-4BFC-AC09-AFBA6E3CFB82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 diagram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gt; The HCF of 36 and 28 is the product of the numbers in the intersection - i.e.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&gt; The LCM is the product of all of the numbers in the diagram - i.e.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 = 4 × 9 × 7 = 2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e Venn diagram method to work out the HCF and LCM for the following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25 and 12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16 and 108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60 and 144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42 and 56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15 and 35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20 and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49B-60AA-4DF0-9E74-5992D9482E04}" type="slidenum">
              <a:t>8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1-10T11:57:05Z</dcterms:modified>
  <cp:revision>117</cp:revision>
  <dc:subject/>
  <dc:title>U4</dc:title>
</cp:coreProperties>
</file>