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848-E02A-4B3C-8880-BEA4E8D4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28D-4334-41B1-A11B-16F1BBD2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848-3AE7-4462-9887-53FA9EC1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C13-EF26-499C-8590-32A6BA52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FEC-22CC-4522-BCAD-A362349F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952-3244-4E5C-BB9C-7D533755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D8E-1F9A-4537-92B5-76D1B933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766-53A6-4C50-BAD2-ED78F33C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49B-9AD4-4A5D-9244-FB27DA80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4B1-49C1-49D5-B918-950FF90D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212-D22A-4B2A-BA64-81B90D6B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439-0174-4D02-AD51-40B77C10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5288-8FEC-4660-BF24-C9B5C9F14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AFB-C226-4CEA-B259-DC66F5C17D76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7760" y="126792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  Decide which of the following are id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(m + 9) = 5m + 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m(m – 2) = 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8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 (x + 3)(x + 4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7x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 (3x + 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2x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x – 5)(2x + 5) =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  Solve the following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3x - 7 =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4(y + 3)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 17x = 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 2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9)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 =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)  2x + 4 = 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4(7 + 2z) = 15 - 8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)  10 - 4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(y - 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y + 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)  36 = 2(3 - 6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D65-EAFC-4024-A15B-D960F19DE3FC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describe the relationship between variab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re very useful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ters are used to represent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Area of a triangle      A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 b × 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b = base length and h =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s are substituted into a formul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  base = 8cm, height = 6c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&gt; A = ½ × 8 × 6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  Volume of a box    V = L x W x 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ngth = 4m,  Width = 3m,  Height = 2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= 4 × 3 ×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A20-BDF0-497C-BC94-421F577D2848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.  Work out the value of y when x = 4 and c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y = 3x +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y = 4x -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y = cx + 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y =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y = c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)  y = 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4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.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mpsite charges for the pitching of a tent and the number of people, p, that stay in it.  If C is the total cost in pounds, the formula used by the campsit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= 2p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Work out the cost of pitching a tent for 6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If the cost is £23, how many people are sleeping in the 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Explain why the cost could never be £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879-4BB6-48C4-A4FF-2A23B9708535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formul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riving your own formula is when you use letters to represent quantities in a cal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Your employers pay you a retainer of £5 per week plus £4 per hour worked.  Write a formula for how much you get paid each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P represent your weekly pay, and h the hours you work in a week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do not work any hours you receive £5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ork 1 hour you receive £5 + £4 = £9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ork 2 hours you receive £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£4 = £1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ork h hours you receive £5 + h × £4 = £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P = 5 + 4h  pounds p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ACA-D80F-47F3-B3BD-876C7F8ADE59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  You are paid according to the formul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5 + 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How much pay do you receive if you work 15 hours in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You receive pay of £81.  How many hours did you work that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  Write formulae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The cost, P, of buying d dollars if the exchange rate is $1 = £0.60 and there is a fee of £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The phone bill, B, if you send n texts at 10p each, make m minutes of calls at 5p per minute and pay a line rental of £5.60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E3D-E2D2-427A-91C2-33619EAD32F1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 Using your formulae from Q2, answer the following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Find the cost of buying 40 doll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Your total bill for buying dollars is £27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dollars did you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 You send 200 texts and make 150 minutes of phone calls in a month.  What will be your b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 The following month your bill is £32.6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sent 100 texts, how many minutes of phone calls did you m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EED-2594-4C4A-878B-3BC6CC5B29BA}" type="slidenum">
              <a:t>15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ifying us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x l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 power.  (pl. ind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number raised to this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×4×4 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multiplying, add the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dividing, subtract the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brackets, multiply the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coefficients, deal with these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×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0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724-7F81-412B-9395-BA94A7E81FE1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. Simplify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j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 (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d)  9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e)  (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2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the value of x in the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If u=3x, show that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ten as 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3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Write an expression in terms of x for 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9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Write an expression in terms of x for 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1/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d) Write 8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terms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EA3-D528-4659-A889-C11FD26CB538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anding single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brac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and a single bracket, multiply all terms in the bracket by the term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y(3x - 4) = 6xy - 8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and double brackets, multiply each term in the second bracket by each term in the first bra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x + 3)(4x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12x -4x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x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E67-514A-44EF-8DAF-BF4D68E91E1A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 Expand and simpl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3m(5 - 2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4(t + 9) – 3(2t – 7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 (7h + 9) – (3h – 7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 x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)  (x + 7)(x + 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)  (3m – 7)(2m –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(x + 4)(x – 6) +(x +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)  (3t – 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(2y – 1)(y + 5)(y – 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(x + 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  Given that two consecutive odd numbers can be written as (2n – 1) and (2n + 1) respectively, show that the difference between their squares is 8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F95-0EAE-4C46-9E72-55816F934B1E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verse of exp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ctorise into single brackets, remove the Highest Common Factors (HCF) of the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CF of the coefficients first, then the HCF of the algebraic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x+3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ouble brackets, look for two numbers that add to give the coefficient of x and multiply to give the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1x + 28 = (x + 4)(x +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64D-0E96-4658-B9E8-04311679D0CA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.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y factorise by removing comm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2x + 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12p + 36q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25w – 5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25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10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)  7x + 14x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)  ab – 2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.  Factorise these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10(x + y) + 13(x + 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(a – b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5(a – b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ab + 2a + 2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cd + ce – me –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).  Use factorisation to help you work out the following without a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.86 + 2 × 1.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 3 × 5.87 – 3 × 0.3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 5.8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5.86 × 4.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 3.32 × 6.68 + 3.3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A2C-E673-44C0-A871-E459B6CCD7A2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).  Factorise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10p – 1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3p + 9pq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7xy – 56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4(p – q) + (p – q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)  ax + bx + ay + b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)  ac – ad – bc + b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 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7x + 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h) 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2x – 35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x – 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j) 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25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) 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6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  x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3xy – 108x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  10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70x +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) 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a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)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Factorise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2xy + 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Use your answer to (a) to find, without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or, the valu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.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2.3×7.7 + 7.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01A-059E-4C86-9D13-A96037117992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ties and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528560"/>
            <a:ext cx="843588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true for all values of x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that the left hand side is equal to the right hand sid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x(x + 1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only true for a limited number of values of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 by gathering the unknowns on one side and the numbers on the other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2x + 1 = 5    =&gt;  x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772-60FB-45ED-85EB-7C37929558D5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5-09-27T09:57:44Z</dcterms:modified>
  <cp:revision>95</cp:revision>
  <dc:subject/>
  <dc:title>U4</dc:title>
</cp:coreProperties>
</file>