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749-94C0-4900-AB0A-9F959863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AAA-381A-4FB1-BEB4-198B119E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473-2240-4DC4-AC86-1CDCC03D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5D1-457C-4AF9-AB89-34B98444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9B8-8FF6-4267-A4F2-DED4032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F23-A312-4C01-A9CD-38BDB42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68A-E5F3-41AE-9104-D48721C9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6CB-441B-43BF-A08F-2D01229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860-BF0F-4B3C-9C64-060CB1AD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C59-CA38-4177-8D4E-800685D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3E0-7EEB-42AB-86B6-7AB6A7D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457-F0D4-4609-91AC-A25B796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BCC-41C2-4D1A-95AD-76BC030B5D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EB7-E039-412F-BBA7-598FA2120D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ubstituti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R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2, R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V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t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8, t =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D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4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6 - 4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6 - 4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- 4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 + 7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+ 3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values into the expression and then calculate like a normal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y = x+2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If x = 3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=&gt; y = 3+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E932-7CCD-40F6-BA1B-62F02CE18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= x - 3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x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 = q + 4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q =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p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= 2x - 2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x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x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x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x +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2-26T09:10:30Z</dcterms:modified>
  <cp:revision>95</cp:revision>
  <dc:subject/>
  <dc:title>U4</dc:title>
</cp:coreProperties>
</file>