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AB8-B39D-46DA-B4F2-DFAC5E81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072-563E-4DD1-AE36-AD56A267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13C-74F4-460C-949A-2AE82FD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3FE-D117-4EC8-993D-F54A22A9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7D3-28EC-4706-8D95-4FAD1D1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B48-DA1A-46A8-9277-C3725FCF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D85-7280-4D49-8127-949372DF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E84-B6A8-4C16-8716-48AE40EC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59B-773D-472E-B956-CE01444A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98F-C39C-48F9-8028-9CAE315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AAB-847E-4CA0-BA18-F5C3EDA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92D-2F2C-4957-AC7E-F61CDED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9F5-5A34-4B31-AA2A-00B59A193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734-989C-4506-BCD2-5A7759867F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rcentage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16.8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% of -3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0% of 2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% of 5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% of 6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% of £30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10% of 200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% of £2000 =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centages are fractions of 100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25% of a number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¼ of the numb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25% of 20 is ¼ of 20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ilarly 125% of 20 is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an be useful for working out discounts in shops and interest on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% of 20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2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0% of 42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5% of 1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% of 4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-3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0% of 5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3-20T09:51:58Z</dcterms:modified>
  <cp:revision>98</cp:revision>
  <dc:subject/>
  <dc:title>U4</dc:title>
</cp:coreProperties>
</file>