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CF5-6CD2-4D26-A5DA-90B968CE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68F-671A-488F-8004-1729FB1F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2A4-221B-4636-812E-2450D42E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A11-023D-40E6-BB84-AF1F51B0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E36-7053-44A1-A01F-CC03F92D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2F3-052E-4011-BF6B-891CA053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F88-C89E-4D61-86E4-077BBE94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A53-7760-4729-A201-07DAD869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FCC-15FC-4DA3-A6B9-BFE9D3C1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956-63A5-4C29-8D43-969BCFDE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DF9-0802-4309-A77A-E4029C31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D78-ACF4-44AB-BC92-C3B93C58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6B31-3433-496D-AE31-09344EF854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D42D-8C48-4416-B144-79E588320D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irected numbers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-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-4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-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+4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-12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-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-6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-7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-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ed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emb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+ = + 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× - =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× - = - 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× + =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:  we do not usually put a + sign infront of a positive directed numb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 3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 - 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3 + 2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4 - 7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5 - 3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6 + 4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7 - 8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7 - 9 =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3-12T10:06:27Z</dcterms:modified>
  <cp:revision>97</cp:revision>
  <dc:subject/>
  <dc:title>U4</dc:title>
</cp:coreProperties>
</file>