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573-C14B-4751-B3BD-A0691F97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367-9386-4860-BE0D-CFC81B08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C5B-2FE5-4854-9C09-4CEA6B09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8C1-D6A7-4CFC-BC1D-2109FCB7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185-FA76-4D27-8C42-F502220B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3E0-F083-49FE-97A7-B55C59BB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659-9CE4-4453-8596-E5799EF2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B77-0238-4DA2-9216-1C7CFEC4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370-697B-4804-A7B3-C3A001FD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C9A-D443-4B85-A201-D5B9B7A0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B7B-04BE-4414-8CAD-CA83DCAD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15A-7E39-42D6-9703-DFA6F51B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218D-EF5E-4252-AE25-993C94BA9B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7B37-8449-4B49-BB1F-A718606431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rrange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y +4 = x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 R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R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S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 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t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- x = </a:t>
            </a: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- x = </a:t>
            </a: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x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y - 3x = </a:t>
            </a: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6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y - 3x = </a:t>
            </a: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6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x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y = </a:t>
            </a: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0" lang="en-GB" sz="96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9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x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9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4x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-arranging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the same thing to both sides to obtain the variable on it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+2 = x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&gt; y-2 = x-2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&gt; y = x-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BEEE-49C4-4FCF-B61E-B9EB25176D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y = x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2y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     2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=&gt; y =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2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4565-FC4D-4E33-8DFD-8E005D97E8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 - 3 = x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p + 4 =q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q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 + 2 = 2x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= x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y - 1 = x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2-22T17:20:48Z</dcterms:modified>
  <cp:revision>93</cp:revision>
  <dc:subject/>
  <dc:title>U4</dc:title>
</cp:coreProperties>
</file>