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2FE-27BB-415E-B1A8-7F73836C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47C-D02C-4674-AFED-5ED416B7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A65-27F9-4795-A4E0-F0AC2135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3B2-9298-462A-ACBC-043A93DD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AA2-55C5-4A7A-B886-1EC695CE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FF5-C181-4D45-AC6A-86D1AA79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EFF-E606-47F0-B533-6A0D5D0F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CAD-8D71-4D05-9951-088BD6F2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EC7-6759-4F09-9F19-EFEE7AF4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819-AC91-48B9-BF27-C37E2E0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25F-8D62-4A1D-B0AC-3E076680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CC5-E975-4942-B53A-25FFA5C3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57AE-30AF-40A6-86ED-FD0C4A02B0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A46F-1696-47E5-AD06-E3E55C3446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pproximation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5.9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13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1.8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2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9.7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0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7.9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2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5.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5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.3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6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0.8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2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5.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8.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9.7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9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nding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 rounded when extra figures are not needed or jus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less than 5 are rounded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3 becomes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that are 5 or more are rounded 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5 becomes 5,    4.8 becomes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for making approxi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.7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3.1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6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3 = 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1.84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3B6D-1431-4EA6-BB25-3D64723B7D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.1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4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2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9.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3.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3.7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1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4.3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7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6.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3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12-06T12:27:56Z</dcterms:modified>
  <cp:revision>90</cp:revision>
  <dc:subject/>
  <dc:title>U4</dc:title>
</cp:coreProperties>
</file>