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1710-3377-4498-BEC2-1A01A632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0EAE-3791-4CC0-95B5-0E64E96A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598C-3827-43E4-96E6-A2269190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415-5132-40D4-9CF0-AC6BE6A9A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CA0C-21C7-4A87-8A93-990AD1D7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5E40-82A0-4F4F-809F-277F0372E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1D63-A57B-4984-8A78-FD924415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6D4-515D-4975-A513-4BA088DE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B13F-3B0A-495D-B9F3-7247D150D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A5E-981B-449B-AEA1-E653364BC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2D03-C198-4C95-88A8-E3BE1CE3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4593-66FE-4FEC-9F40-DBF29714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4F21-0F0F-43C2-8122-32A40710B7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ADF2-7996-4BBE-AF40-604FD4F1CE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Arial"/>
              </a:rPr>
              <a:t>UNIT 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26560" y="3500280"/>
            <a:ext cx="79203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pproximation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5.9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7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8.4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6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9.7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0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7.9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2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7.2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2.3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5.3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6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0.8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4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5.8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3.2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9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unding of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 rounded when extra figures are not needed or justif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less than 5 are rounded dow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3 becomes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that are 5 or more are rounded up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  4.5 becomes 5,    4.8 becomes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y useful for making approxim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2.7 × 4.1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=&gt; 3 × 4 = 12</a:t>
            </a:r>
            <a:br>
              <a:rPr sz="9600"/>
            </a:b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(11.07)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06B92-8D14-4046-AE0F-416709D04C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8.1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6.4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5.6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9.2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3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2.7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9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4.3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8.8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Q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29973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16.2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GB" sz="9600" spc="-1" strike="noStrike">
                <a:solidFill>
                  <a:srgbClr val="000000"/>
                </a:solidFill>
                <a:latin typeface="Arial"/>
              </a:rPr>
              <a:t> 9.9 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5-11-27T10:18:29Z</dcterms:modified>
  <cp:revision>89</cp:revision>
  <dc:subject/>
  <dc:title>U4</dc:title>
</cp:coreProperties>
</file>