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A33-7026-48A6-9A89-990B0108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F98-B25F-43A9-BEB7-8A4E886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DC1-9F30-4839-BDAD-85D35C1B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1BB-D78E-48DF-B146-612C6F7B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3B9-6783-4CBA-B66E-5D991A4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749-BED5-457B-831C-B89CC90B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ABC-39E7-47AE-A236-ECBA95A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FDE-273D-4C13-99A8-32D4F9B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F61-8E31-462B-949C-A352C2E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24C-B237-41C9-8244-D52D2C1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031-67D8-467D-B0FB-2216A12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87E-9907-404F-B3AF-CB96A7A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78CA-C0B8-4C42-BDF8-6319CC291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A7D-F08F-4AD6-A2D4-BE278B068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6.2 + 9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9 + 7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.4 - 6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7 -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9 - 2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.2 -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.3 -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8 - 14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8 - 3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.7 -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DFA-F95E-4EE5-9555-072B5E8F34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2.7 + 4.1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=&gt; 3 + 4 = 7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(6.8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.7 × 4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3 × 4 = 1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1.07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779-F81D-47BA-AD7A-FEA9168501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.3 + 8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4 + 5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2 +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2.7 + 9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4.3 + 8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1-21T11:50:25Z</dcterms:modified>
  <cp:revision>88</cp:revision>
  <dc:subject/>
  <dc:title>U4</dc:title>
</cp:coreProperties>
</file>