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DE6-93C8-4EE4-9B4C-41E580A7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EB9-C57A-473C-8DEA-A76020C8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BFF-81B9-4939-A197-1C6C45D7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21A-9EBF-41E1-9131-D597F2A7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368-377E-4097-9221-3D8B49A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D43-D993-4B2B-8346-9BC211B5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F03-8C02-4D53-872B-B242245E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7E6-38F8-46C7-A476-1A087FC3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27D-7397-4310-9EEC-FF0C9249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C60-417C-4777-B6CC-5C0AED1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CE9-747A-4FD9-83D9-07EE3BC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3F7-6BCC-4D67-AE4A-88DBC5EB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7E77-4A9E-4773-AF51-B69F92F97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EC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499920"/>
            <a:ext cx="792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y 2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4365720"/>
            <a:ext cx="82184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put is then always opposite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so toggling occurs on each successive clock pu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63640" y="1773360"/>
            <a:ext cx="3421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ake a flip-flop togg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et and Reset are connected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conn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413000"/>
          <a:ext cx="5329080" cy="23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532908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532720" y="3716280"/>
                <a:ext cx="35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bit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5280" y="393372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eviou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 and     for 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and connected to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52640"/>
          <a:ext cx="7885080" cy="27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88508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47640" y="386064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20000" y="472428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o-n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9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up-cou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output connected to re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inputs connected to appropria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052640"/>
          <a:ext cx="7451640" cy="331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4516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-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pen-loop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, 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out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compens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-bandwidt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916280"/>
          <a:ext cx="4321080" cy="27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21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08000" y="5084640"/>
                <a:ext cx="511200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earth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/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resistance 1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916280"/>
          <a:ext cx="4392720" cy="22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9272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817720" y="4508640"/>
                <a:ext cx="343692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se by multipl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sistance of each input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es the same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er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DAC &amp; Mi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2205000"/>
          <a:ext cx="3960720" cy="24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05000"/>
                    <a:ext cx="39607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63640" y="4797360"/>
                <a:ext cx="59040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ce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40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tch input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it has low input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extensively in modern electronic systems to aid the transmission of signals through electrically noisy environ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484280"/>
          <a:ext cx="4859280" cy="26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84280"/>
                    <a:ext cx="48592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4365720"/>
          <a:ext cx="3887640" cy="11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365720"/>
                    <a:ext cx="388764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inverting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input resistor to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gain/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voltage gai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follower whe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00280"/>
          <a:ext cx="421164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42116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43280" y="4724280"/>
                <a:ext cx="359892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292720" y="4581360"/>
                <a:ext cx="431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Fol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tage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7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ga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 voltage in phase with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large input resistanc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o subtract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obtain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-channel and p-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628640"/>
          <a:ext cx="4176720" cy="26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8640"/>
                    <a:ext cx="417672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ower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op-amp to provide voltag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over distortion at low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MOSFETs into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/clipping at high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supply voltage or reduce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1557360"/>
          <a:ext cx="421164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421164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987640" y="4365720"/>
                <a:ext cx="3097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132000" y="1844640"/>
                <a:ext cx="324036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-pull amplifi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341360"/>
          <a:ext cx="4932360" cy="283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49323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63640" y="4437000"/>
                <a:ext cx="18813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LEC2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circuit diagrams – circle and name sub-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 networ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 to charge to 0.63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 to discharge to 0.37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charge to 0.5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.69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fully charge or discharge = 5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5 Mon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TRIGGER input goes below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high and DISCHARGE switches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charges through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capacitor voltage =2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THRESHOLD vol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low and DISCHARGE switche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or dis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125360"/>
          <a:ext cx="5580000" cy="25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5580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508720" y="1916280"/>
                <a:ext cx="3132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</m:t>
                    </m:r>
                    <m:r>
                      <m:t xml:space="preserve">×</m:t>
                    </m:r>
                    <m:r>
                      <m:t xml:space="preserve"></m:t>
                    </m:r>
                    <m:r>
                      <m:t xml:space="preserve">R</m:t>
                    </m:r>
                    <m:r>
                      <m:t xml:space="preserve"></m:t>
                    </m:r>
                    <m:r>
                      <m:t xml:space="preserve">×</m:t>
                    </m:r>
                    <m:r>
                      <m:t xml:space="preserve">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5 a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3789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first switched on, TRIGGER is less than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high, DISCHARGE switches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or charges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capacitor voltage = 2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RES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low, DISCHARGE switche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or discharges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capacitor voltage = 1/3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RIG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high, process rep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32000" y="1413000"/>
          <a:ext cx="3962160" cy="20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413000"/>
                    <a:ext cx="39621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364000" y="1268280"/>
                <a:ext cx="341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35640" y="1916280"/>
                <a:ext cx="244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580000" y="2492280"/>
                <a:ext cx="28796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table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ET input is briefly taken to logic 0,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utput will become logic 1 and the    output will become logic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RESET input is now briefly taken to logic 0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come logic 0 and the    will become logic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60496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268280"/>
          <a:ext cx="381636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38163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940360" y="2276640"/>
                <a:ext cx="3556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24360" y="414972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Type Flip-Fl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000" y="4005360"/>
            <a:ext cx="821844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1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0.  Not dependent on the state of the clock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rising edg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set to the logic stat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58920" y="1341360"/>
          <a:ext cx="5400720" cy="23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341360"/>
                    <a:ext cx="54007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19280" y="1341000"/>
            <a:ext cx="519084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to be stored in the latch is set up on inpu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data is steady, a short pulse is applied to the clock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is stored in the latch on the rising edge of the clock pu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052640"/>
          <a:ext cx="334152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334152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4920" y="3645000"/>
            <a:ext cx="84978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rising edge of each clock pulse, the data from a D-type flip-flop is stored in the next D-type flip-f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ata transfer occurs all of the way along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the output of the last flip-flop is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data applied to the input of the first flip-flop is taken into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052640"/>
          <a:ext cx="725940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7259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23:23Z</dcterms:modified>
  <cp:revision>39</cp:revision>
  <dc:subject/>
  <dc:title>ELE2</dc:title>
</cp:coreProperties>
</file>