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AB-0257-4F15-88EE-B15C4AFC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D24-49FA-421F-ACF9-19D83BA5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3DF-4062-41FA-A475-F9CE1994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BDB-F4A1-4E36-8531-C4B5EB49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59F-7418-48CA-A5EC-3AB3F4E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8D5-7998-4FD0-8BC3-E97800FA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38D-B20F-440F-B8E3-21C7135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700-EC39-4C93-A3BC-8E3E8616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6D9-9030-40CF-BD61-43B7968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7EF-2C84-4F96-AF7F-F791102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7F6-7F7D-4D87-9A0D-B819C13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C33-3194-4A54-9ADA-EEC0020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95B-4125-49B8-8BB2-B640B511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1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E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11640" y="162864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the voltage across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the maximum current through the 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largest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00280"/>
          <a:ext cx="3924360" cy="34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39243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Zener Diodes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2565000"/>
            <a:ext cx="4413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maximum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cross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the nex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rg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2637000"/>
          <a:ext cx="4105080" cy="34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410508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14842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ethod if the maximum power of the zener diode is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Zener Diodes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11640" y="2060640"/>
            <a:ext cx="4702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the maximum current through R (remember the zener curr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the voltage across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culate 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the next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malle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referred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2852640"/>
          <a:ext cx="4105080" cy="347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852640"/>
                    <a:ext cx="41050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50920" y="1268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thod if the output details of the power supply a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ive In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87640" y="1413000"/>
            <a:ext cx="410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D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light level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og grap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m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s the temperature increases, the resistance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Log-lin grap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628640"/>
          <a:ext cx="529272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5292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221000"/>
          <a:ext cx="4932360" cy="22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21000"/>
                    <a:ext cx="49323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Divi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4508280"/>
            <a:ext cx="40546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is formula is not on the data shee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628640"/>
          <a:ext cx="4572000" cy="37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720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427640" y="2205000"/>
                <a:ext cx="4249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66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s and MOSFE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8360" y="5157360"/>
            <a:ext cx="30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32000" y="1197000"/>
          <a:ext cx="6769080" cy="24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97000"/>
                    <a:ext cx="67690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-396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3933720"/>
          <a:ext cx="6985080" cy="25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933720"/>
                    <a:ext cx="69850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4436640"/>
            <a:ext cx="83739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protection diode with inductiv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move large induced vol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ode protects semiconductor when the device is switched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1125360"/>
          <a:ext cx="489744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25360"/>
                    <a:ext cx="489744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580000" y="1700280"/>
            <a:ext cx="3059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en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erational Amplifi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67280" y="1557000"/>
            <a:ext cx="47592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ial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in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pen-loop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, A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output 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mpens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-bandwidth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916280"/>
          <a:ext cx="4321080" cy="27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43210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79640" y="5373720"/>
                <a:ext cx="5111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ara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32360" y="5084640"/>
            <a:ext cx="1965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341360"/>
          <a:ext cx="5292720" cy="39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529272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643280" y="2565360"/>
                <a:ext cx="424836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04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tative La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+ B = B + A               A · B = B ·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ive La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+ (B + C) = (A + B) + C      A ·(B · C) = (A · B) ·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ive La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· (B + C) = A · B + A ·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Morgan's theor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63640" y="5084640"/>
                <a:ext cx="19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788000" y="5084640"/>
                <a:ext cx="1873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systems broken down into sub-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sub-systems in circuit dia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19280" y="1268280"/>
          <a:ext cx="6192720" cy="22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268280"/>
                    <a:ext cx="619272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Identit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50920" y="1267920"/>
            <a:ext cx="48243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rnaugh M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5280" y="1268280"/>
                <a:ext cx="2201760" cy="53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64000" y="1989000"/>
          <a:ext cx="4608360" cy="41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989000"/>
                    <a:ext cx="460836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c Ga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4292640"/>
            <a:ext cx="8352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, AND, OR, NAND, NOR, EX-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th tables – every combination of inp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341360"/>
          <a:ext cx="381960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341360"/>
                    <a:ext cx="3819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03640" y="1341360"/>
          <a:ext cx="3810240" cy="12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341360"/>
                    <a:ext cx="38102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2781360"/>
          <a:ext cx="31910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2781360"/>
                    <a:ext cx="31910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32360" y="2637000"/>
          <a:ext cx="3886200" cy="126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2637000"/>
                    <a:ext cx="38862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6720" y="3933360"/>
            <a:ext cx="18208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16000" y="1268280"/>
                <a:ext cx="219060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oltage and Curr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ACROSS object – Vo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THROUGH object – 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= Voltage x Current – Wa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stance = Voltage/Current - Oh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843280" y="4365720"/>
          <a:ext cx="214308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365720"/>
                    <a:ext cx="21430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llel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urrent is sh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Voltage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771640" y="1395360"/>
          <a:ext cx="637236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395360"/>
                    <a:ext cx="6372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7520" y="3932280"/>
          <a:ext cx="4297320" cy="195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7520" y="3932280"/>
                    <a:ext cx="42973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o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eries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arallel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ur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S1852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 va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348000" y="1557360"/>
                <a:ext cx="3240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708360" y="2421000"/>
                <a:ext cx="22320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537192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al current f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urrent to pass in one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7V across a forward biased silicon d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76360" y="1125360"/>
          <a:ext cx="676764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125360"/>
                    <a:ext cx="67676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1160" y="2201760"/>
          <a:ext cx="8472240" cy="317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160" y="2201760"/>
                    <a:ext cx="8472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13:48Z</dcterms:modified>
  <cp:revision>54</cp:revision>
  <dc:subject/>
  <dc:title>ELE2</dc:title>
</cp:coreProperties>
</file>