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8F9-F07A-4D13-8B74-14FD87BD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22E-3CFD-4820-A3F5-238E334F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607-407E-4364-9842-079FBCE4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53B-E8B4-4845-8671-1AD5F897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55E-5903-4072-A299-45052606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9F6-813A-46F5-B1B8-91F954BB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D48-143A-4293-B104-97A9ADC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A90-CC1F-46C5-ADB6-111E92A1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81C-2126-483D-B96A-E9CAC048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B7C-A0B9-4CDD-B21F-E16D040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19A-B80C-4308-88A2-EDD1CBB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9C8-D8AA-4994-8860-A3E7FF84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CF1B-431B-4E7C-A3FF-298013F84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LE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o-n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9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up-cou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ate output connected to re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gate inputs connected to appropria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052640"/>
          <a:ext cx="7451640" cy="331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74516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tative La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+ B = B + A               A · B = B ·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ociative La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+ (B + C) = (A + B) + C      A ·(B · C) = (A · B) ·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tive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· (B + C) = A · B + A ·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Morgan's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050920" y="4437000"/>
                <a:ext cx="1943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859280" y="4437000"/>
                <a:ext cx="1873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Id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50920" y="1267920"/>
            <a:ext cx="482436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rnaugh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95280" y="1268280"/>
                <a:ext cx="2201760" cy="532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ba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564000" y="1989000"/>
          <a:ext cx="4608360" cy="41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1989000"/>
                    <a:ext cx="4608360" cy="41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table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95280" y="1197000"/>
            <a:ext cx="475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ET input is briefly taken to logic 0,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utput will become logic 1 and the    output will become logic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RESET input is now briefly taken to logic 0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come logic 0 and the    will become logic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0496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268280"/>
          <a:ext cx="3816360" cy="30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268280"/>
                    <a:ext cx="38163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940360" y="2276640"/>
                <a:ext cx="3556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724360" y="4149720"/>
                <a:ext cx="355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D Gate Mono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4000" y="3573000"/>
            <a:ext cx="8820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input of gate X goes low the output of gate X goes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tarts to charge capacitor C through resistor R and so makes the input of gate Y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of gate Y goes low, which is fed back to gate X so keeping its output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charges through R until the input voltage to gate Y is below half of the supply vol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utput of gate Y goes high, making output of gate X low, circuit res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1915200"/>
            <a:ext cx="28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1197000"/>
          <a:ext cx="5795640" cy="22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579564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D Gate A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640" y="3573000"/>
            <a:ext cx="856908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 input to first NAND gate goes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of first NAND gate goes low, output of astable goes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or discharges and charges in opposite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il voltage at input to first NAND gate &lt;+Vs/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of astable switches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or charges in opposite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 repeats as long as control is hi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1844640"/>
            <a:ext cx="349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765000"/>
          <a:ext cx="5113440" cy="266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765000"/>
                    <a:ext cx="5113440" cy="26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92280" y="1628640"/>
            <a:ext cx="17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R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=1/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-Type Flip-Fl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" y="4005360"/>
            <a:ext cx="821844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1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se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0.  Not dependent on the state of the clock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he rising edge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set to the logic state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58920" y="1341360"/>
          <a:ext cx="5400720" cy="23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341360"/>
                    <a:ext cx="54007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19280" y="1341000"/>
            <a:ext cx="519084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to be stored in the latch is set up on inpu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data is steady, a short pulse is applied to the clock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is stored in the latch on the rising edge of the clock pu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052640"/>
          <a:ext cx="334152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334152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4920" y="3645000"/>
            <a:ext cx="84978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rising edge of each clock pulse, the data from a D-type flip-flop is stored in the next D-type flip-f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ata transfer occurs all of the way along the shif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the output of the last flip-flop is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data applied to the input of the first flip-flop is taken into the shift reg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052640"/>
          <a:ext cx="725940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52640"/>
                    <a:ext cx="7259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y 2 Cou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4365720"/>
            <a:ext cx="82184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put is then always opposite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so toggling occurs on each successive clock pu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63640" y="1773360"/>
            <a:ext cx="3421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make a flip-flop togg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et and Reset are connected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conn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413000"/>
          <a:ext cx="5329080" cy="23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532908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532720" y="3716280"/>
                <a:ext cx="35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bit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93372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esets joined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previou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unter and     for 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resets joined together and connected to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52640"/>
          <a:ext cx="7885080" cy="27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788508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47640" y="386064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20000" y="4724280"/>
                <a:ext cx="409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06-05-07T11:53:56Z</dcterms:modified>
  <cp:revision>33</cp:revision>
  <dc:subject/>
  <dc:title>ELE2</dc:title>
</cp:coreProperties>
</file>