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987-C186-465C-AA51-5723A6A4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577-8B25-4F18-998F-88D89DA9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5E8-2168-4266-AE29-AB852EAF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39B-6817-4948-A2C3-A6E5AFC3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4EF-5433-4B01-87FE-75664327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9AF-9BD8-45B5-957D-A2D90D2C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0E0-55D3-4102-B93C-0EEA9369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CCC-57EB-49C0-9A76-FA18424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B48-F647-4F49-9BE4-EDF283DD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DB6-AC58-4319-A9BB-2303BB5F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012-B04B-4D3F-9B8E-8BEE8945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9DF-86F3-480E-8A42-AE9E6A77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05B9-4E36-4798-AFAB-AE2FC4DFF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E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A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ass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low frequency signals to pass, attenuates high frequenc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point 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-3240" y="1265400"/>
          <a:ext cx="4075200" cy="19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" y="1265400"/>
                    <a:ext cx="40752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3282840"/>
          <a:ext cx="4448160" cy="26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282840"/>
                    <a:ext cx="444816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435640" y="3933720"/>
                <a:ext cx="20876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pass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high frequency signals to pass, attenuates low frequenc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point 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64000" y="3789360"/>
                <a:ext cx="27003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-4680" y="1120680"/>
          <a:ext cx="4941720" cy="259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0" y="1120680"/>
                    <a:ext cx="494172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3857760"/>
          <a:ext cx="4572000" cy="275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857760"/>
                    <a:ext cx="45720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LE2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circuit diagrams – circle and name sub-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-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95280" y="1197000"/>
            <a:ext cx="475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open-loop vol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, A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out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compens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-bandwidth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916280"/>
          <a:ext cx="4321080" cy="27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210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8000" y="5084640"/>
                <a:ext cx="511200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sistance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earth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/c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/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resistance 1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916280"/>
          <a:ext cx="4392720" cy="225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9272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7720" y="4508640"/>
                <a:ext cx="3436920" cy="18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se by multipl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sistance of each input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es the same a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ver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DAC &amp; Mi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2205000"/>
          <a:ext cx="3960720" cy="24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05000"/>
                    <a:ext cx="39607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63640" y="4797360"/>
                <a:ext cx="590400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invert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are input resistor to 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n phase with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gain/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voltage gain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follower whe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700280"/>
          <a:ext cx="4211640" cy="26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42116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43280" y="4724280"/>
                <a:ext cx="359892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292720" y="4581360"/>
                <a:ext cx="431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Fol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tage ga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7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ga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 voltage in phase with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large input resistanc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o subtract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obtain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-channel and p-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628640"/>
          <a:ext cx="4176720" cy="26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628640"/>
                    <a:ext cx="417672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-pull amplifi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ower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op-amp to provide 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over distortion at low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MOSFETs into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/clipping at high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supply voltage or reduce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557360"/>
          <a:ext cx="4211640" cy="28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421164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-pull amplifi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341360"/>
          <a:ext cx="4932360" cy="283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49323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763640" y="4437000"/>
                <a:ext cx="18813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or reac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ance – the opposition to the flow of alternating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in o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or reactance decreases with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47640" y="4508640"/>
                <a:ext cx="25927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628640"/>
          <a:ext cx="4535640" cy="230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453564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06-05-03T21:26:58Z</dcterms:modified>
  <cp:revision>21</cp:revision>
  <dc:subject/>
  <dc:title>ELE2</dc:title>
</cp:coreProperties>
</file>