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6F4-1718-4445-A7BB-6D273782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66E-732E-48B3-837C-40BAA7D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30A-FD04-4283-87F3-19E0DC45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E9F-D7D9-4B46-BE00-AD60DEE4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CAE-AEE4-4D7F-9F09-DF5B611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A32-B5FF-45C6-9FE7-9C06508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8E5-1C51-4163-8734-43216F7F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3E9-3DAE-41F1-A97A-37993DAA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D58-9B6F-4306-88E6-CF6628E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74D-273F-4CA8-BC86-7F9D596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67D-8138-4052-B946-E01B412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6E4-2CE2-403D-B269-CAC98BC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AA21-3DB1-4994-A07C-7EF69826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1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E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1640" y="162864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voltage across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e maximum current through the 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largest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00280"/>
          <a:ext cx="3924360" cy="34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39243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Zener 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4360" y="1557360"/>
            <a:ext cx="441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e maximum power of the ze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maximum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cross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largest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557360"/>
          <a:ext cx="4105080" cy="347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41050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ive In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87640" y="1413000"/>
            <a:ext cx="410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D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light level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og grap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m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the temperature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in grap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628640"/>
          <a:ext cx="529272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5292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4221000"/>
          <a:ext cx="4932360" cy="22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21000"/>
                    <a:ext cx="4932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Divi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4508280"/>
            <a:ext cx="40546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is formula is not on the data shee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628640"/>
          <a:ext cx="4572000" cy="37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720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427640" y="2205000"/>
                <a:ext cx="4249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6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s and MOSFE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8360" y="5157360"/>
            <a:ext cx="30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32000" y="1197000"/>
          <a:ext cx="6769080" cy="24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67690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-396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16000" y="3933720"/>
          <a:ext cx="6985080" cy="25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933720"/>
                    <a:ext cx="69850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4436640"/>
            <a:ext cx="83739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protection diode with inductiv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move large induce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ode protects semiconductor when the device is switch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1125360"/>
          <a:ext cx="489744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25360"/>
                    <a:ext cx="489744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580000" y="1700280"/>
            <a:ext cx="3059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en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erational Amplifi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67280" y="1557000"/>
            <a:ext cx="47592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979640" y="5373720"/>
                <a:ext cx="5111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32360" y="5084640"/>
            <a:ext cx="1965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341360"/>
          <a:ext cx="529272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529272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643280" y="2565360"/>
                <a:ext cx="4248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paci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e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arall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87640" y="4365720"/>
                <a:ext cx="3097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32000" y="1844640"/>
                <a:ext cx="32403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C networks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n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ime to charge to 0.63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ime to discharge to 0.37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to charge to 0.5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0.69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to fully charge or discharge = 5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systems broken down into sub-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sub-systems in circuit dia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19280" y="1268280"/>
          <a:ext cx="6192720" cy="22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68280"/>
                    <a:ext cx="619272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555 Monostab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TRIGGER input goes below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goes high and DISCHARGE switches o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charges through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il capacitor voltage =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(THRESHOLD volt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goes low and DISCHARGE switches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dischar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125360"/>
          <a:ext cx="558000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580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08720" y="1916280"/>
                <a:ext cx="3132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R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555 astab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3789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first switched on, TRIGGER is less than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goes high, DISCHARGE switches o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il capacitor voltage = 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THRESHOL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goes low, DISCHARGE switches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dis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il capacitor voltage =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TRIGG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goes high, process rep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32000" y="1413000"/>
          <a:ext cx="396216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413000"/>
                    <a:ext cx="39621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64000" y="1268280"/>
                <a:ext cx="341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35640" y="191628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0000" y="2492280"/>
                <a:ext cx="2879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c Ga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4292640"/>
            <a:ext cx="8352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, AND, OR, NAND, NOR, EX-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th tables – every combination of inp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341360"/>
          <a:ext cx="381960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341360"/>
                    <a:ext cx="3819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3640" y="1341360"/>
          <a:ext cx="3810240" cy="12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341360"/>
                    <a:ext cx="38102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2781360"/>
          <a:ext cx="31910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781360"/>
                    <a:ext cx="31910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32360" y="2637000"/>
          <a:ext cx="3886200" cy="126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2637000"/>
                    <a:ext cx="38862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6720" y="3933360"/>
            <a:ext cx="1820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16000" y="1268280"/>
                <a:ext cx="219060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and Curr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ACROSS object – Vo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THROUGH object – 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= Voltage x Current – Wa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stance = Voltage/Current - O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843280" y="4365720"/>
          <a:ext cx="214308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365720"/>
                    <a:ext cx="21430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llel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771640" y="1395360"/>
          <a:ext cx="637236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395360"/>
                    <a:ext cx="6372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7520" y="3932280"/>
          <a:ext cx="4297320" cy="19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3932280"/>
                    <a:ext cx="42973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eries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arallel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ur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S1852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 va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348000" y="1557360"/>
                <a:ext cx="3240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708360" y="2421000"/>
                <a:ext cx="22320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537192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al current 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urrent to pass in one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7V across a forward biased silicon d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1125360"/>
          <a:ext cx="676764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125360"/>
                    <a:ext cx="67676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1160" y="2201760"/>
          <a:ext cx="8472240" cy="317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160" y="2201760"/>
                    <a:ext cx="8472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14T09:37:47Z</dcterms:modified>
  <cp:revision>49</cp:revision>
  <dc:subject/>
  <dc:title>ELE2</dc:title>
</cp:coreProperties>
</file>