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31.wmf" ContentType="image/x-wmf"/>
  <Override PartName="/ppt/media/image29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3.wmf" ContentType="image/x-wmf"/>
  <Override PartName="/ppt/media/image8.wmf" ContentType="image/x-wmf"/>
  <Override PartName="/ppt/media/image38.wmf" ContentType="image/x-wmf"/>
  <Override PartName="/ppt/media/image9.wmf" ContentType="image/x-wmf"/>
  <Override PartName="/ppt/media/image39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5.wmf" ContentType="image/x-wmf"/>
  <Override PartName="/ppt/media/image35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1.jpeg" ContentType="image/jpeg"/>
  <Override PartName="/ppt/media/image1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CB5E3-E866-4708-A532-C6AD186B4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9B25F-574B-45AB-A9BD-8CADA4943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8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5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52AA9-5465-40D1-8F73-785CEADB4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50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33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50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33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66CD0-248F-4E69-8CD6-26C31DCFC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863BC-3095-430C-BFBC-DF3841F7D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2DCB1-D0D7-46E5-BE85-0AD9CDA2C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D7E70-3278-4320-AF4D-E86DF69BE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DEE5E-7DEF-4AB7-BB67-C2CCF6891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38BED-1045-4B93-B33D-E496DF1FA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84972-C2D3-4E52-B71A-618AEAF76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5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34C63-EB21-4C17-828D-81C26CB7D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8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C9D47-5C2A-49E9-A320-493DC217B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C9EA8-9002-45B2-8705-AE594A06B7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328760" cy="1254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0.wmf"/><Relationship Id="rId6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2.wmf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4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5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6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7.wmf"/><Relationship Id="rId1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9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0.wmf"/><Relationship Id="rId8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2.wmf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3.wmf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4.wmf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6.wmf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8.wmf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9.wmf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0.wmf"/><Relationship Id="rId4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1.wmf"/><Relationship Id="rId4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2.wmf"/><Relationship Id="rId4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3.wmf"/><Relationship Id="rId4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4.wmf"/><Relationship Id="rId4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5.wmf"/><Relationship Id="rId4" Type="http://schemas.openxmlformats.org/officeDocument/2006/relationships/slideLayout" Target="../slideLayouts/slideLayout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7.wmf"/><Relationship Id="rId6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8.wmf"/><Relationship Id="rId4" Type="http://schemas.openxmlformats.org/officeDocument/2006/relationships/slideLayout" Target="../slideLayouts/slideLayout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9.wmf"/><Relationship Id="rId4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Verdana"/>
              </a:rPr>
              <a:t>ELEC5</a:t>
            </a:r>
            <a:endParaRPr b="0" lang="en-US" sz="8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9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OMMUNICATIONS SYSTEM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REVISION NOTE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328760" cy="1254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4FD94-B307-49C8-A952-AF59D4BE4348}" type="slidenum">
              <a:t>1</a:t>
            </a:fld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apacitor reactance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659480" y="15573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actance – the opposition to the flow of alternating curr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easured in ohm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pacitor reactance decreases with frequency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1558800" y="4465800"/>
                <a:ext cx="2592360" cy="14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rPr>
                            <m:lit/>
                            <m:nor/>
                          </m:rPr>
                          <m:t xml:space="preserve">f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2" name=""/>
          <p:cNvSpPr/>
          <p:nvPr/>
        </p:nvSpPr>
        <p:spPr>
          <a:xfrm>
            <a:off x="0" y="276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0" y="1628640"/>
          <a:ext cx="4535640" cy="2303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628640"/>
                    <a:ext cx="4535640" cy="23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E6C7B-5F3D-47C7-AA15-60EA5EEA5C93}" type="slidenum">
              <a:t>10</a:t>
            </a:fld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Low pass filter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59480" y="15573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llows low frequency signals to pass, attenuates high frequency signa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Break point  X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Verdana"/>
              </a:rPr>
              <a:t>c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= 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-3240" y="1265400"/>
          <a:ext cx="4075200" cy="1942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3240" y="1265400"/>
                    <a:ext cx="4075200" cy="194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" name=""/>
          <p:cNvSpPr/>
          <p:nvPr/>
        </p:nvSpPr>
        <p:spPr>
          <a:xfrm>
            <a:off x="0" y="2109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0" y="3282840"/>
          <a:ext cx="4448160" cy="2643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3282840"/>
                    <a:ext cx="4448160" cy="264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5435640" y="3933720"/>
                <a:ext cx="208764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rPr>
                            <m:lit/>
                            <m:nor/>
                          </m:rPr>
                          <m:t xml:space="preserve">R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0CD5B-2CE7-40DB-B74F-CE43667E587D}" type="slidenum">
              <a:t>11</a:t>
            </a:fld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High pass filter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59480" y="15573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llows high frequency signals to pass, attenuates low frequency signa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Break point  X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Verdana"/>
              </a:rPr>
              <a:t>c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= 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5375160" y="3746520"/>
                <a:ext cx="2700360" cy="148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rPr>
                            <m:lit/>
                            <m:nor/>
                          </m:rPr>
                          <m:t xml:space="preserve">R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0" name=""/>
          <p:cNvSpPr/>
          <p:nvPr/>
        </p:nvSpPr>
        <p:spPr>
          <a:xfrm>
            <a:off x="0" y="260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-4680" y="1120680"/>
          <a:ext cx="4941720" cy="2594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4680" y="1120680"/>
                    <a:ext cx="4941720" cy="259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"/>
          <p:cNvSpPr/>
          <p:nvPr/>
        </p:nvSpPr>
        <p:spPr>
          <a:xfrm>
            <a:off x="0" y="2109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0" y="3857760"/>
          <a:ext cx="4572000" cy="27590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3857760"/>
                    <a:ext cx="4572000" cy="275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6AFDD-B509-40EA-9416-F688A14EB64A}" type="slidenum">
              <a:t>12</a:t>
            </a:fld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Verdana"/>
              </a:rPr>
              <a:t>Active filter circuit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8000" y="5516640"/>
            <a:ext cx="115092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7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25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250920" y="1413000"/>
          <a:ext cx="3109680" cy="1939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0920" y="1413000"/>
                    <a:ext cx="3109680" cy="193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" name=""/>
          <p:cNvSpPr/>
          <p:nvPr/>
        </p:nvSpPr>
        <p:spPr>
          <a:xfrm>
            <a:off x="-252360" y="256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22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5796000" y="1197000"/>
          <a:ext cx="3105000" cy="24242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96000" y="1197000"/>
                    <a:ext cx="3105000" cy="242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"/>
          <p:cNvSpPr/>
          <p:nvPr/>
        </p:nvSpPr>
        <p:spPr>
          <a:xfrm>
            <a:off x="0" y="249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250920" y="4581360"/>
          <a:ext cx="3114720" cy="19591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50920" y="4581360"/>
                    <a:ext cx="3114720" cy="195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" name=""/>
          <p:cNvSpPr/>
          <p:nvPr/>
        </p:nvSpPr>
        <p:spPr>
          <a:xfrm>
            <a:off x="0" y="22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5724360" y="4443480"/>
          <a:ext cx="3105360" cy="20365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5724360" y="4443480"/>
                    <a:ext cx="3105360" cy="203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0" y="237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3059280" y="2533680"/>
          <a:ext cx="3124080" cy="23112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3059280" y="2533680"/>
                    <a:ext cx="3124080" cy="231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7EC75-7825-43A9-AFAC-F0A05DE36409}" type="slidenum">
              <a:t>13</a:t>
            </a:fld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4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Verdana"/>
              </a:rPr>
              <a:t>Audio power amplifier IC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23640" y="2420640"/>
            <a:ext cx="7993080" cy="41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 bandwidth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of an amplifier is defined as the range of frequencies within which the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Power Gain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does not fall below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HALF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of its maximum valu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Power = V</a:t>
            </a:r>
            <a:r>
              <a:rPr b="1" lang="en-GB" sz="20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/R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, the bandwidth of an amplifier also the range of frequencies within which the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Voltage Gain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does not fall below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70%,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1/√2)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of its maximum value.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250920" y="1341360"/>
          <a:ext cx="4405320" cy="998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0920" y="1341360"/>
                    <a:ext cx="4405320" cy="9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5003640" y="1378080"/>
          <a:ext cx="4140360" cy="1022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003640" y="1378080"/>
                    <a:ext cx="4140360" cy="102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" name=""/>
          <p:cNvSpPr/>
          <p:nvPr/>
        </p:nvSpPr>
        <p:spPr>
          <a:xfrm>
            <a:off x="0" y="24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1403280" y="4149720"/>
          <a:ext cx="6121440" cy="2392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403280" y="4149720"/>
                    <a:ext cx="6121440" cy="239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122D9-03B8-496C-877C-BF65000930BC}" type="slidenum">
              <a:t>14</a:t>
            </a:fld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Verdana"/>
              </a:rPr>
              <a:t>Basic radio system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68000" y="4652640"/>
            <a:ext cx="482436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2414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1332000" y="1146240"/>
          <a:ext cx="6769080" cy="2884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32000" y="1146240"/>
                    <a:ext cx="6769080" cy="288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" name=""/>
          <p:cNvSpPr/>
          <p:nvPr/>
        </p:nvSpPr>
        <p:spPr>
          <a:xfrm>
            <a:off x="0" y="2724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395280" y="3789360"/>
          <a:ext cx="8115480" cy="24368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95280" y="3789360"/>
                    <a:ext cx="8115480" cy="243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D20CE-3780-420C-B3A6-954C501CB5FA}" type="slidenum">
              <a:t>15</a:t>
            </a:fld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58560" y="274320"/>
            <a:ext cx="7885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Amplitude Modulation (AM)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-360" y="1268280"/>
            <a:ext cx="2700360" cy="47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requency consta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mplitude var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roadcast bandwidth is 9kHz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ong and medium wave band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140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2700360" y="1324080"/>
          <a:ext cx="6443640" cy="5533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700360" y="1324080"/>
                    <a:ext cx="6443640" cy="553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8" name=""/>
          <p:cNvSpPr/>
          <p:nvPr/>
        </p:nvSpPr>
        <p:spPr>
          <a:xfrm>
            <a:off x="0" y="545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1815B-C797-45E2-9842-A7C621A3E122}" type="slidenum">
              <a:t>16</a:t>
            </a:fld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87280" y="274320"/>
            <a:ext cx="79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Frequency Modulation (FM)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-360" y="1557360"/>
            <a:ext cx="2195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stant amplitud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arying frequenc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roadcast bandwidth is 100kHz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HF wave ban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146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2124000" y="1125360"/>
          <a:ext cx="7020000" cy="5739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24000" y="1125360"/>
                    <a:ext cx="7020000" cy="573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BB0F0-E0AF-427A-B813-497B72434DE7}" type="slidenum">
              <a:t>17</a:t>
            </a:fld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Signal Bandwidth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23640" y="1699920"/>
            <a:ext cx="718920" cy="42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4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2543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1619280" y="1125360"/>
          <a:ext cx="6335640" cy="2822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19280" y="1125360"/>
                    <a:ext cx="6335640" cy="282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9" name=""/>
          <p:cNvGraphicFramePr/>
          <p:nvPr/>
        </p:nvGraphicFramePr>
        <p:xfrm>
          <a:off x="1671480" y="3713040"/>
          <a:ext cx="6772320" cy="3152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71480" y="3713040"/>
                    <a:ext cx="6772320" cy="31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DC624-7CEC-4906-A728-FEA39CCBEBCC}" type="slidenum">
              <a:t>18</a:t>
            </a:fld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Verdana"/>
              </a:rPr>
              <a:t>DAB radio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914400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Digital Audio Broadcast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More efficient use of radio spectru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uning by station nam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ransmission of dat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217.5 – 230MHz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Multiplexes – 2.3Mbi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National multiplex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0" lang="en-GB" sz="2800" spc="-1" strike="noStrike" baseline="30000">
                <a:solidFill>
                  <a:srgbClr val="000000"/>
                </a:solidFill>
                <a:latin typeface="Verdana"/>
              </a:rPr>
              <a:t>+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stations/multiplex – 32kb/s to 192kb/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terleaved audio data over 360m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2EFE6-6029-45C9-B41F-83A29969DEE7}" type="slidenum">
              <a:t>19</a:t>
            </a:fld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Generalised System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8360" y="6021360"/>
            <a:ext cx="822960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"/>
          <p:cNvSpPr/>
          <p:nvPr/>
        </p:nvSpPr>
        <p:spPr>
          <a:xfrm>
            <a:off x="0" y="2800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2195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0" y="1628640"/>
          <a:ext cx="9144000" cy="3915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628640"/>
                    <a:ext cx="9144000" cy="39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47AA5-706E-47A6-81F2-F3017634493E}" type="slidenum">
              <a:t>2</a:t>
            </a:fld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706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The Simple Receiver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0" y="4723920"/>
            <a:ext cx="862488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erial/earth – </a:t>
            </a:r>
            <a:r>
              <a:rPr b="0" lang="en-US" sz="2000" spc="-1" strike="noStrike">
                <a:solidFill>
                  <a:srgbClr val="0000ff"/>
                </a:solidFill>
                <a:latin typeface="Verdana"/>
              </a:rPr>
              <a:t>changes em waves into electrical signa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d circuit – </a:t>
            </a:r>
            <a:r>
              <a:rPr b="0" lang="en-US" sz="2000" spc="-1" strike="noStrike">
                <a:solidFill>
                  <a:srgbClr val="0000ff"/>
                </a:solidFill>
                <a:latin typeface="Verdana"/>
              </a:rPr>
              <a:t>filters out required signal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modulator – </a:t>
            </a:r>
            <a:r>
              <a:rPr b="0" lang="en-US" sz="2000" spc="-1" strike="noStrike">
                <a:solidFill>
                  <a:srgbClr val="0000ff"/>
                </a:solidFill>
                <a:latin typeface="Verdana"/>
              </a:rPr>
              <a:t>removes bottom half of the AM signa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f filter – </a:t>
            </a:r>
            <a:r>
              <a:rPr b="0" lang="en-US" sz="2000" spc="-1" strike="noStrike">
                <a:solidFill>
                  <a:srgbClr val="0000ff"/>
                </a:solidFill>
                <a:latin typeface="Verdana"/>
              </a:rPr>
              <a:t>removes the remaining rf signa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utput – </a:t>
            </a:r>
            <a:r>
              <a:rPr b="0" lang="en-US" sz="2000" spc="-1" strike="noStrike">
                <a:solidFill>
                  <a:srgbClr val="0000ff"/>
                </a:solidFill>
                <a:latin typeface="Verdana"/>
              </a:rPr>
              <a:t>recovered information signa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2152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971640" y="404640"/>
          <a:ext cx="6505560" cy="4203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71640" y="404640"/>
                    <a:ext cx="6505560" cy="420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92DD0-B118-41ED-9747-964CDA410CD1}" type="slidenum">
              <a:t>20</a:t>
            </a:fld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Tuned Circuit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-360" y="4436640"/>
            <a:ext cx="4716360" cy="16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uality factor – Q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sonance wh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Verdana"/>
              </a:rPr>
              <a:t>L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= X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Verdana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2090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1206360" y="976320"/>
          <a:ext cx="7917120" cy="340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06360" y="976320"/>
                    <a:ext cx="7917120" cy="340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3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5003640" y="4292640"/>
                <a:ext cx="3672000" cy="156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= 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L</m:t>
                            </m:r>
                            <m:r>
                              <m:t xml:space="preserve"></m:t>
                            </m:r>
                            <m:r>
                              <m:t xml:space="preserve">C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FFF88-BD0B-4EC3-8C6E-B1042DE43946}" type="slidenum">
              <a:t>21</a:t>
            </a:fld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00000" y="274320"/>
            <a:ext cx="82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The Simple Receiver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-Limitation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-360" y="1557360"/>
            <a:ext cx="8697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oor selectivity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Verdana"/>
              </a:rPr>
              <a:t>Only one tuned circui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Verdana"/>
              </a:rPr>
              <a:t>Increase the number of tuned circui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Verdana"/>
              </a:rPr>
              <a:t>Difficult to tune several tuned circuits togeth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oor sensitivity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Verdana"/>
              </a:rPr>
              <a:t>No amplification – uses energy received by the aeri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Verdana"/>
              </a:rPr>
              <a:t>Add rf amplifi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Verdana"/>
              </a:rPr>
              <a:t>Add af amplifi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1AE31-A416-47BA-BF9D-DCE5A6A8739A}" type="slidenum">
              <a:t>22</a:t>
            </a:fld>
          </a:p>
        </p:txBody>
      </p:sp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87280" y="274320"/>
            <a:ext cx="79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The Superhet Receiver - 1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0" y="4581360"/>
            <a:ext cx="914400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incoming signals are mixed with the local oscillator signal and one of the resulting frequencies is the Intermediate frequency which is filtered and amplified by the if amplifi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24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0" y="1341360"/>
          <a:ext cx="8893080" cy="3114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341360"/>
                    <a:ext cx="8893080" cy="311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16405-A452-4AC7-A1D0-D771C1DC8FB4}" type="slidenum">
              <a:t>23</a:t>
            </a:fld>
          </a:p>
        </p:txBody>
      </p: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87280" y="274320"/>
            <a:ext cx="79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The Superhet Receiver - 2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f amplifier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Verdana"/>
              </a:rPr>
              <a:t>Initial amplification and selection of signals from the aeria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cal oscillat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Verdana"/>
              </a:rPr>
              <a:t>Produces difference frequency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ix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Verdana"/>
              </a:rPr>
              <a:t>Combines local oscillator and radio signal to produce the intermediate frequency (if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f amplifi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Verdana"/>
              </a:rPr>
              <a:t>Contains many tuned circuits and amplifier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Verdana"/>
              </a:rPr>
              <a:t>Provides most of the selectivity and sensitivity for the receive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modulat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Verdana"/>
              </a:rPr>
              <a:t>Extracts the information from the carrie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F amplifi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Verdana"/>
              </a:rPr>
              <a:t>Amplifies the informa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utomatic Gain Control (AGC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Verdana"/>
              </a:rPr>
              <a:t>Maintains a constant information output as the rf signal vari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D9E2D-28A0-4AC2-85DE-9B153F76DC7D}" type="slidenum">
              <a:t>24</a:t>
            </a:fld>
          </a:p>
        </p:txBody>
      </p:sp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81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The Superhet Receiver - 3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-360" y="1484280"/>
            <a:ext cx="869796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if frequencies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19960" indent="-22392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Verdana"/>
              </a:rPr>
              <a:t>AM receivers – 455kHz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19960" indent="-22392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Verdana"/>
              </a:rPr>
              <a:t>VHF receivers – 10.7MHz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19960" indent="-22392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Verdana"/>
              </a:rPr>
              <a:t>Analogue TVs – 39.5MHz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19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f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Verdana"/>
              </a:rPr>
              <a:t>s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 + f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Verdana"/>
              </a:rPr>
              <a:t>o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 = if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19960" indent="-22392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Verdana"/>
              </a:rPr>
              <a:t>f</a:t>
            </a:r>
            <a:r>
              <a:rPr b="0" lang="en-GB" sz="2400" spc="-1" strike="noStrike" baseline="-25000">
                <a:solidFill>
                  <a:srgbClr val="0000ff"/>
                </a:solidFill>
                <a:latin typeface="Verdana"/>
              </a:rPr>
              <a:t>s</a:t>
            </a:r>
            <a:r>
              <a:rPr b="0" lang="en-GB" sz="2400" spc="-1" strike="noStrike">
                <a:solidFill>
                  <a:srgbClr val="0000ff"/>
                </a:solidFill>
                <a:latin typeface="Verdana"/>
              </a:rPr>
              <a:t> = signal frequenc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19960" indent="-22392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Verdana"/>
              </a:rPr>
              <a:t>f</a:t>
            </a:r>
            <a:r>
              <a:rPr b="0" lang="en-GB" sz="2400" spc="-1" strike="noStrike" baseline="-25000">
                <a:solidFill>
                  <a:srgbClr val="0000ff"/>
                </a:solidFill>
                <a:latin typeface="Verdana"/>
              </a:rPr>
              <a:t>o</a:t>
            </a:r>
            <a:r>
              <a:rPr b="0" lang="en-GB" sz="2400" spc="-1" strike="noStrike">
                <a:solidFill>
                  <a:srgbClr val="0000ff"/>
                </a:solidFill>
                <a:latin typeface="Verdana"/>
              </a:rPr>
              <a:t> = local oscillator frequenc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19960" indent="-22392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Verdana"/>
              </a:rPr>
              <a:t>if = Intermediate frequenc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19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Image respons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028A0-2B9D-467A-B02A-8FC668BCA268}" type="slidenum">
              <a:t>25</a:t>
            </a:fld>
          </a:p>
        </p:txBody>
      </p:sp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ulse Amplitude Modulation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-360" y="2276280"/>
            <a:ext cx="2484360" cy="36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alogue voltage measured at regular time interval and the values transmitt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ample ra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0" y="1268280"/>
            <a:ext cx="194472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11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PAM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976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2340000" y="1521000"/>
          <a:ext cx="6804000" cy="4701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340000" y="1521000"/>
                    <a:ext cx="6804000" cy="470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D8169-87FD-49DC-8AF8-2252B75FB172}" type="slidenum">
              <a:t>26</a:t>
            </a:fld>
          </a:p>
        </p:txBody>
      </p:sp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667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Pulse Width Modulation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0" y="2205000"/>
            <a:ext cx="334800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stant amplitude puls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idth of pulse indicates the magnitude of the analogue sign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0" y="1267920"/>
            <a:ext cx="212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PWM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3348000" y="1197000"/>
          <a:ext cx="5796000" cy="5180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348000" y="1197000"/>
                    <a:ext cx="5796000" cy="518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54B5B-C5B1-4384-BE6F-0BE68764A80C}" type="slidenum">
              <a:t>27</a:t>
            </a:fld>
          </a:p>
        </p:txBody>
      </p:sp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74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Pulse Position Modulation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0" y="1988640"/>
            <a:ext cx="327672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pulses are of constant amplitude and dur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pulses are delayed at each sample by an amount that is dependent upon the amplitude of the sign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0" y="1268280"/>
            <a:ext cx="28432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PPM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3203640" y="1197000"/>
          <a:ext cx="5940360" cy="5310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03640" y="1197000"/>
                    <a:ext cx="5940360" cy="531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1B6E6-9E64-4C63-BA86-FA16EF587C63}" type="slidenum">
              <a:t>28</a:t>
            </a:fld>
          </a:p>
        </p:txBody>
      </p:sp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Pulse Code Modulation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0" y="2060640"/>
            <a:ext cx="334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amplitude of the analogue signal is sampl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sample is then converted into a binary value by an ADC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binary value is transmitted in serial for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0" y="1268280"/>
            <a:ext cx="2433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PCM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"/>
          <p:cNvSpPr/>
          <p:nvPr/>
        </p:nvSpPr>
        <p:spPr>
          <a:xfrm>
            <a:off x="0" y="976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3276720" y="1125360"/>
          <a:ext cx="5487840" cy="5732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76720" y="1125360"/>
                    <a:ext cx="5487840" cy="573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A6264-2702-4316-8E1B-6F6853131CB4}" type="slidenum">
              <a:t>29</a:t>
            </a:fld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064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Transmission Media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oaxial Cab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8360" y="3499920"/>
            <a:ext cx="822960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uter conductor shields inner conducto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aracteristic Impedance - 5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/ 75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tenuation – 5dB/10km at 1GHz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0000ff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Verdana"/>
              </a:rPr>
              <a:t>Cable resistan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0000ff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Verdana"/>
              </a:rPr>
              <a:t>Leakage current between conducto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0000ff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Verdana"/>
              </a:rPr>
              <a:t>Radiation of signa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elocity ratio = 0.66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0" y="1557360"/>
          <a:ext cx="9144000" cy="1562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557360"/>
                    <a:ext cx="9144000" cy="156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0F960-5DF9-456C-AAEB-90EEB69EBA37}" type="slidenum">
              <a:t>3</a:t>
            </a:fld>
          </a:p>
        </p:txBody>
      </p:sp>
    </p:spTree>
  </p:cSld>
  <p:transition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Verdana"/>
              </a:rPr>
              <a:t>Packet Switching 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More efficient use of networ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Data broken into blocks – packe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Ethernet – GPRS – Land line telephon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Header – Data – Checksu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Packet switching network – Route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ransmission by different path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Receiver assembles packets in ord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Redundancy within packet switching networ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0848E-BFF6-4CD3-9D66-E7E93218804A}" type="slidenum">
              <a:t>30</a:t>
            </a:fld>
          </a:p>
        </p:txBody>
      </p:sp>
    </p:spTree>
  </p:cSld>
  <p:transition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81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Serial Transmission - 1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-360" y="1268280"/>
            <a:ext cx="869796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rial v Parall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alf Duplex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Verdana"/>
              </a:rPr>
              <a:t>One device transmits, the other receiv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Verdana"/>
              </a:rPr>
              <a:t>Only one transmission medium is need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ull Duplex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Verdana"/>
              </a:rPr>
              <a:t>Both devices transmit and receive at the same tim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Verdana"/>
              </a:rPr>
              <a:t>Two transmission media are need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ynchronous / Asynchronou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andshak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Verdana"/>
              </a:rPr>
              <a:t>RTS  C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B8466-D6C4-4062-B1EE-6898DC2794A7}" type="slidenum">
              <a:t>31</a:t>
            </a:fld>
          </a:p>
        </p:txBody>
      </p:sp>
    </p:spTree>
  </p:cSld>
  <p:transition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74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Serial Transmission - 2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0" y="2060280"/>
            <a:ext cx="3276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65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(00100001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0" y="3789360"/>
            <a:ext cx="9144000" cy="27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tart bi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top bit(s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Parity bi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Baud ra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Bit ra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0" y="269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2843280" y="1341360"/>
          <a:ext cx="6300720" cy="2381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843280" y="1341360"/>
                    <a:ext cx="6300720" cy="238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B7691-6A34-46A6-B885-C60DB6DD2E78}" type="slidenum">
              <a:t>32</a:t>
            </a:fld>
          </a:p>
        </p:txBody>
      </p:sp>
    </p:spTree>
  </p:cSld>
  <p:transition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erial Transmission - 3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The Shift Register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-360" y="3933360"/>
            <a:ext cx="8893080" cy="24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n the rising edge of each clock pulse, the data from a D-type flip-flop is stored in the next D-type flip-flop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s data transfer occurs all of the way along the shift registe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ta from the output of the last flip-flop is los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ew data applied to the input of the first flip-flop is taken into the shift registe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iming diagram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"/>
          <p:cNvSpPr/>
          <p:nvPr/>
        </p:nvSpPr>
        <p:spPr>
          <a:xfrm>
            <a:off x="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395280" y="1413000"/>
          <a:ext cx="7259760" cy="2481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5280" y="1413000"/>
                    <a:ext cx="7259760" cy="248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5E28A-1DD2-476A-9FBB-ADB1545FC703}" type="slidenum">
              <a:t>33</a:t>
            </a:fld>
          </a:p>
        </p:txBody>
      </p:sp>
    </p:spTree>
  </p:cSld>
  <p:transition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Multiplexer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-360" y="5300640"/>
            <a:ext cx="869796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ltiplexe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multiplex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oth need a clock and a two bit count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"/>
          <p:cNvSpPr/>
          <p:nvPr/>
        </p:nvSpPr>
        <p:spPr>
          <a:xfrm>
            <a:off x="0" y="1747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0" y="1197000"/>
          <a:ext cx="4140360" cy="3992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197000"/>
                    <a:ext cx="4140360" cy="399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0" name=""/>
          <p:cNvSpPr/>
          <p:nvPr/>
        </p:nvSpPr>
        <p:spPr>
          <a:xfrm>
            <a:off x="0" y="1733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4500720" y="1197000"/>
          <a:ext cx="4643280" cy="40910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500720" y="1197000"/>
                    <a:ext cx="4643280" cy="409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B892B-61F6-4572-8A1C-0717336ED52C}" type="slidenum">
              <a:t>34</a:t>
            </a:fld>
          </a:p>
        </p:txBody>
      </p:sp>
    </p:spTree>
  </p:cSld>
  <p:transition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ellular Communication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-360" y="1557000"/>
            <a:ext cx="349236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ery short communication by radio from mobile handset to base st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peat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generato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-360" y="4552560"/>
            <a:ext cx="869796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requency reu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ell size depends on the number of channels requir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parate up link and down link frequenc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SM – 900MHz, DECT – 1.8GHz, 3G – 2GHz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0" y="1967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3276720" y="1125360"/>
          <a:ext cx="5592600" cy="3511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76720" y="1125360"/>
                    <a:ext cx="5592600" cy="351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71F12-987B-4DF3-81A5-064F28D3E50F}" type="slidenum">
              <a:t>35</a:t>
            </a:fld>
          </a:p>
        </p:txBody>
      </p:sp>
    </p:spTree>
  </p:cSld>
  <p:transition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74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Fibre Optic Communication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914400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ser diode transmitters  0.9 – 1.6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IN diode receive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pers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0" y="4365360"/>
            <a:ext cx="9144000" cy="24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tal Internal Refle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tenu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Verdana"/>
              </a:rPr>
              <a:t>Scatter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Verdana"/>
              </a:rPr>
              <a:t>Absorp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Verdana"/>
              </a:rPr>
              <a:t>Radi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mpare with wired system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"/>
          <p:cNvSpPr/>
          <p:nvPr/>
        </p:nvSpPr>
        <p:spPr>
          <a:xfrm>
            <a:off x="0" y="3009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3" name=""/>
          <p:cNvGraphicFramePr/>
          <p:nvPr/>
        </p:nvGraphicFramePr>
        <p:xfrm>
          <a:off x="250920" y="2637000"/>
          <a:ext cx="8532720" cy="1515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4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0920" y="2637000"/>
                    <a:ext cx="8532720" cy="151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CAE08-3D96-4FD5-93A6-8BB54B1326C9}" type="slidenum">
              <a:t>36</a:t>
            </a:fld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Transmission Media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Twisted Pair Cab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8360" y="3068640"/>
            <a:ext cx="8229600" cy="30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fferential signa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aracteristic Impedanc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10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tenuation – 2.2dB/10m at 100MHz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Verdana"/>
              </a:rPr>
              <a:t>Cable resistan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Verdana"/>
              </a:rPr>
              <a:t>Leakage current between conducto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Verdana"/>
              </a:rPr>
              <a:t>Radiation of signa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elocity ratio = 0.6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"/>
          <p:cNvSpPr/>
          <p:nvPr/>
        </p:nvSpPr>
        <p:spPr>
          <a:xfrm>
            <a:off x="0" y="3119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0" y="1773360"/>
          <a:ext cx="9144000" cy="1189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773360"/>
                    <a:ext cx="9144000" cy="118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8DBCD-FA61-444A-8A9A-11BC199399C5}" type="slidenum">
              <a:t>4</a:t>
            </a:fld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Transmission Media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Free Spac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8360" y="4005360"/>
            <a:ext cx="8229600" cy="20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lectromagnetic waves  c=3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</a:rPr>
              <a:t>8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/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tenuation – 92.4dB/km at 1GHz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=f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"/>
          <p:cNvSpPr/>
          <p:nvPr/>
        </p:nvSpPr>
        <p:spPr>
          <a:xfrm>
            <a:off x="0" y="272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0" y="1557360"/>
          <a:ext cx="9144000" cy="2478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557360"/>
                    <a:ext cx="9144000" cy="247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BF221-663C-4892-8457-18CC7A57062D}" type="slidenum">
              <a:t>5</a:t>
            </a:fld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Transmission Media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Optical Fibr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8360" y="3789360"/>
            <a:ext cx="8229600" cy="22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tal Internal Refle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tenuation – 3dB/km at 1GHz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"/>
          <p:cNvSpPr/>
          <p:nvPr/>
        </p:nvSpPr>
        <p:spPr>
          <a:xfrm>
            <a:off x="0" y="274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0" y="1268280"/>
          <a:ext cx="9144000" cy="2487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268280"/>
                    <a:ext cx="9144000" cy="248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D7BE5-508D-4680-8835-E3DBE20D6651}" type="slidenum">
              <a:t>6</a:t>
            </a:fld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Multiplexing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nables more information to pass along a communications mediu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requency Division Multiplex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Verdana"/>
              </a:rPr>
              <a:t>Analogue and Digital 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Verdana"/>
              </a:rPr>
              <a:t>Separate carrier frequency for each sign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ime Division Multiplex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Verdana"/>
              </a:rPr>
              <a:t>Digital Information onl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Verdana"/>
              </a:rPr>
              <a:t>Separate time slot for each sign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05890-D454-44CA-98E3-882CD191B399}" type="slidenum">
              <a:t>7</a:t>
            </a:fld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Signal Degradation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ttenu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Verdana"/>
              </a:rPr>
              <a:t>Ohmic loss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Verdana"/>
              </a:rPr>
              <a:t>Radia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Crosstal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Verdana"/>
              </a:rPr>
              <a:t>Interference from adjacent cabl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Dispers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Verdana"/>
              </a:rPr>
              <a:t>Different frequencies travel at different speed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Distor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Verdana"/>
              </a:rPr>
              <a:t>Signals produced and added to a signal as a signal passes through a communications syste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Noi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Verdana"/>
              </a:rPr>
              <a:t>Random additional signals added to a signal as it passes through a communications syste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C6001-4380-4192-97B6-6064596576DF}" type="slidenum">
              <a:t>8</a:t>
            </a:fld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Signal to Noise Ratio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68000" y="2781360"/>
            <a:ext cx="828036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Decibel – logarithmic rati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Verdana"/>
              </a:rPr>
              <a:t>Add together for each subsyste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mplification increases both the signal and the noi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395280" y="1484280"/>
                <a:ext cx="8353440" cy="110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gnal to noise ratio = 10</m:t>
                    </m:r>
                    <m:r>
                      <m:t xml:space="preserve">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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ignal power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Noise power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d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324000" y="4952880"/>
                <a:ext cx="8604000" cy="112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gnal to noise ratio = 20 </m:t>
                    </m:r>
                    <m:r>
                      <m:t xml:space="preserve">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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ignal voltage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Noise voltage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d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D6E05-558A-4C24-B8CE-D664289CFD80}" type="slidenum">
              <a:t>9</a:t>
            </a:fld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30T09:08:36Z</dcterms:created>
  <dc:creator>IKES</dc:creator>
  <dc:description/>
  <dc:language>en-US</dc:language>
  <cp:lastModifiedBy>IKES</cp:lastModifiedBy>
  <dcterms:modified xsi:type="dcterms:W3CDTF">2011-04-09T10:46:36Z</dcterms:modified>
  <cp:revision>83</cp:revision>
  <dc:subject/>
  <dc:title>ELE2</dc:title>
</cp:coreProperties>
</file>