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985-B933-44F3-A4C3-572C7B57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EF5-D79C-4891-85F1-0BC50AB8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DDB-8B38-4235-9093-8E19BF8C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16C-3283-46B6-9D51-26435431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799-F9E2-4B1A-A914-CE733B09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093-6E5D-4EFB-930F-7752EA0C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7B1-D3C9-4AC9-9B19-9E0978A1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3C3-DB4E-4C41-A52A-EDF4BCBA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AD7-5463-42E9-B52E-19EBAFD0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DF2-4A0B-4486-9395-F14F84CB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752-CC01-48FF-BC3C-30EC7422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5DA-3F49-42E1-9228-6A8C014C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3BD9-AC85-4C53-B1A1-C597DF04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ELEC4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ONTROL SYSTEM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Assembler Mnemon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00000" y="2133720"/>
          <a:ext cx="7417080" cy="4140000"/>
        </p:xfrm>
        <a:graphic>
          <a:graphicData uri="http://schemas.openxmlformats.org/drawingml/2006/table">
            <a:tbl>
              <a:tblPr/>
              <a:tblGrid>
                <a:gridCol w="3709440"/>
                <a:gridCol w="370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OR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P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W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R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Microcontroll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 1 – 20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-bit bi-directional ports -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B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direction register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IS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ISB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IS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 bit is set to 1 then the port bit is an input, if the bit is set to 0 then the port bit is an outpu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tatus register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for which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carry flag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zero flag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Z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timer fla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clock prescaler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ich can be set to divide the clock frequency by 2 to 256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8-bit timer register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M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ich is decremented on each falling edge of the clock prescaler pulse and which set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status register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en it is 0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70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gital to Analogue Converter (DAC)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79200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connected to data bus via a la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162160"/>
            <a:ext cx="352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3640" y="1844640"/>
          <a:ext cx="5940360" cy="35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844640"/>
                    <a:ext cx="594036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55640" y="2205000"/>
            <a:ext cx="259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129760"/>
            <a:ext cx="30589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f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Rf, 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8R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6Rf,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32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4Rf,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8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Analogue to Digital Converter (ADC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527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gital Ramp AD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0" y="2492280"/>
            <a:ext cx="4038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increments output from DAC until the analogue voltage is greater than the analogue input vol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ator detects this and ACK is pulled 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35280" y="1268280"/>
          <a:ext cx="5508720" cy="34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268280"/>
                    <a:ext cx="55087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5634000"/>
            <a:ext cx="81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detects this and so the last number it   sent to the DAC is equivalent to the analogue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lash ADC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y fa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compa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s: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igital oscillosco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35440" y="333360"/>
          <a:ext cx="4408560" cy="616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5440" y="333360"/>
                    <a:ext cx="44085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hotodiod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348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LED calculations often included in these question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diodes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an produce a small voltage – 0.6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ften used in reverse bias m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verse bias current proportional to incident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Very fast response time (LDRs are very slo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76720" y="1341360"/>
          <a:ext cx="5867280" cy="220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41360"/>
                    <a:ext cx="5867280" cy="22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ptical shaft encod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132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ution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360/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deg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n=number of 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0/S deg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=number of s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-360" y="4437000"/>
            <a:ext cx="86979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 Shaft Enco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ngular direction, speed and absolute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otted Disk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one sen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ngular speed and relative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95640" y="1125360"/>
          <a:ext cx="6048360" cy="31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5640" y="1125360"/>
                    <a:ext cx="604836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ven segment displa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7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ven LEDs for segments plus one for the decimal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binations lit to display numbers and charac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Eg a, b, g, c, d for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ndard calculations apply to each LED (seg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xed displ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CD displ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83360" y="1557360"/>
          <a:ext cx="296064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83360" y="1557360"/>
                    <a:ext cx="29606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t matrix displa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580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xed dis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ly one column powered at any on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lies on persistence of 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an be dimmer than normal display since each column is only illuminated for 1/5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Ds to be lit are selected via the Row connections as each Column is power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35840" y="0"/>
          <a:ext cx="2117520" cy="28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5840" y="0"/>
                    <a:ext cx="21175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54520" y="2852640"/>
          <a:ext cx="3489480" cy="400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4520" y="2852640"/>
                    <a:ext cx="348948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epper Mot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polar and bipo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otates through a precise an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s control electronics to continuously ro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urrent applied in turn to each set of coi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H-brid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ss torque and  angular speed than traditional mo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3930480"/>
          <a:ext cx="7704000" cy="292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930480"/>
                    <a:ext cx="77040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No feedba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osed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duces the effect of the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utput reaches an adjustable steady end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ncreases the effect of the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utput oscillates or satur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chmitt Trigg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switching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Hyster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duces false switching on noisy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s a comparator with a variable reference vol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voltage at P when the output is hig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is gives the upper switching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voltage at P when the output is l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is gives the lower switching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70400" y="1413000"/>
          <a:ext cx="3873600" cy="39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70400" y="1413000"/>
                    <a:ext cx="3873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H-Bridge driv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4508640"/>
            <a:ext cx="8229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lows bidirectional control of curr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te the use of p and n channel MOSF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19280" y="1341360"/>
          <a:ext cx="6265800" cy="318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341360"/>
                    <a:ext cx="626580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Robotic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rol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wer 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rol algorith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 and Neural Netwo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cial and economic imp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uture develop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eural Networ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arison with 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 processors very simple but very many used, traditional computer processors very complex but only a few us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s retain data in the weightings of the connections made, computers have dedicated memory compon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s are trained - changing the weightings of the connections made with experience, computers follow a pre-described set of instru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s best at predictive tasks, computers better at calc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eneral syst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un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ystere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916280"/>
          <a:ext cx="9144000" cy="23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914400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icroprocessor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58936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700280"/>
          <a:ext cx="9144000" cy="360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0720" y="1197000"/>
            <a:ext cx="401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ory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/O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at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ru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istate buff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ree states – 0, 1, open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Enables data to be put onto a data bus without causing ‘bus contentions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Output Enable (OE) often ‘active low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One needed per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8920" y="1125360"/>
          <a:ext cx="7885080" cy="26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125360"/>
                    <a:ext cx="7885080" cy="26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Latch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Enables data to be outputted from data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Processor sets valid data onto data bus and then pulses CK hi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Data captured and stored in lat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One flip-flop needed per b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416560" y="260280"/>
          <a:ext cx="3727440" cy="623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6560" y="260280"/>
                    <a:ext cx="372744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System on a Chip (So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C/AV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S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rvard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Separate Instruction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Adap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low Char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determine the sequence of operations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ids logical thou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628640"/>
          <a:ext cx="914400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914400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04-09T10:39:57Z</dcterms:modified>
  <cp:revision>64</cp:revision>
  <dc:subject/>
  <dc:title>ELE2</dc:title>
</cp:coreProperties>
</file>