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774238" cy="6638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9FC-EF91-4CD5-97B2-690D35D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6B-BA5A-421A-9B96-AD4A36B0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3FD-F189-4E12-B536-9C6C658A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711-567B-4F8E-B3BC-5EEC0780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11D-ACC4-440E-8E11-51EFF7BC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BF1-DF0A-4774-9CDF-91BFC50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EE8-99E5-4233-91C5-7F513CB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1E2-5CF8-4E1E-90EA-125D575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ED7-B507-4FCC-A8DE-26C3DAE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805-1B0C-43AD-A13E-B00D14B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CE1-3663-43DE-9F2D-C7CC8ED8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358-8FD1-49DD-BEDF-9922370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D554-9C8C-4AC4-8C7C-BBCC2A82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hysics at 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8DA-7842-4B08-B23C-0D91A1C04D2F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58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268280"/>
          <a:ext cx="7417080" cy="5537160"/>
        </p:xfrm>
        <a:graphic>
          <a:graphicData uri="http://schemas.openxmlformats.org/drawingml/2006/table">
            <a:tbl>
              <a:tblPr/>
              <a:tblGrid>
                <a:gridCol w="1148040"/>
                <a:gridCol w="1493640"/>
                <a:gridCol w="1386000"/>
                <a:gridCol w="3389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velength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-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ray shadow graphs, crystallography, radi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-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elec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ray shadow graphs, crystallography, radi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vio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t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sation, fluoresc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ble 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7 ×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obje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tub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, astronomy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ob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 vision, cooking, astr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wa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cillating electrical circ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, entertainment, television, radar, coo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cillating electrical circ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, entertainment, tel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2BA-E476-4730-B380-4D210D653F67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s of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verse – displacement at right angles to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itudinal – displacement parallel to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e wave – wave is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ing (stationary) wave – when two progressive waves meet travelling in opposite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des – minimum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tinodes – maximum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node and antinode  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onance tube, Melde’s experiment, spring, son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826-7B2F-416F-AE48-3492DC84956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itudinal pressur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displacement 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phase 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tub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2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3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4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ed tub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3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5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ings - wave velocity - tension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quency depends on length, tension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41480" y="4724280"/>
                <a:ext cx="61945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CC1-EF66-4DA1-8AE3-DDAC2E8E4D9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vefront – the surface showing the position of the w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– the difference between two waves – usually expressed in degrees or rad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rence – when two waves of similar amplitude have a constant phase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difference – the difference between two waves – usually expressed in wavel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ase difference = 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path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55D-0BBA-4F0B-BAC1-5BD5DCE79EC1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hange in direction of a wave due to a change in wav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Internal Reflection – light travelling from more dense to less dens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angle  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1/s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ptical fibres -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prisms – periscopes, binocular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2268360" y="2349360"/>
          <a:ext cx="3095640" cy="11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349360"/>
                    <a:ext cx="3095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1E9-492E-425E-A7AD-E04B7C736B4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ing - parallel light rays all made to pass through a point - the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 fatter in middle than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focal length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t object,  lens formula, reflection at 2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781360"/>
          <a:ext cx="9144000" cy="24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1360"/>
                    <a:ext cx="914400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9B2-1A85-4209-87E3-9AD168FA0E9D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ing - parallel light rays all appear to pass through a point - the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 thinner in middle than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2637000"/>
          <a:ext cx="8280360" cy="39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637000"/>
                    <a:ext cx="8280360" cy="39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DDF-0F38-4ADD-A6B3-4B27B5E28FD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 = distance of object from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= distance of image from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= focal length of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ar magnification = v/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 is positive sign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of a lens = 1/f  Dioptres (f in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n lense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 together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84720" y="1989000"/>
                <a:ext cx="26672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08360" y="5013360"/>
                <a:ext cx="51832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614-FF52-4407-9F2F-8672A0A32614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arisation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m radiation vibrates in just on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laroid – sun glasses – removes gl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rossed polaroids stop light pa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ss analysis in pla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centration of (sugar)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CD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ngitudinal wav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n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be pola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7FF-825D-4C5A-81A2-213A228C0B87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 of incidence = Angle of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at the boundary between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f the wave is refract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se echo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nar (remembe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), ultrasound 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lution limited by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resolve distances less th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3FD-AB4D-40D6-9D82-AC877F273761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nsity and Fl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ty = mass / volume  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 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ide by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multiply by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ty of wat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≈ 1000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pthrust = weight of fluid displ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n object floats in a fluid if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density of the object is less than that of the fl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upthrust is greater than the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chimedes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3A2-7B59-4C83-AAE8-544374EB7781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icles or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icl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, Photoelectric effect, atomic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v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, refraction, interference, 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hotons – packets of e-m energy (wav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 =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ons between discrete energ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adiant flux – Power per square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88B-6659-40E5-8CA5-1C6A9939B11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dence for light a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s emitted from a metal surface when short wavelength light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 = hf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reshold frequency – minimum frequency for photoelectrons to be e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work function of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V = 1.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FFC-BB1C-4999-AAAB-EF05EB322D7D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ppl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of received frequency owing to movement of source or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velength changes owing to th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– polic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– red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ar speed tr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E96-BD64-4050-BE62-D614CD7CE5E8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raction – the spreading of waves beyond the geometrical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that light is a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noticeable when obstacle/gap is comparable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n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ectron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ves as particles – particles as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= h/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9E6-7394-47E2-B947-988DE2D6E1C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ves must be co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position (addition)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hase, path difference {(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}, 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ut of phase, {(n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},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ipple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oung’s double s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87840" y="5462640"/>
                <a:ext cx="162252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4E8-A437-41CB-A530-C1ECF041A915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3EA-676C-4865-BAD5-2D69C6AD43D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AE6-2E27-4129-ACB7-9B46477AD2F6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6CC-CF26-4D76-AB79-B1D72BBC114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AFD-D72A-40A1-A023-4F47C113776C}" type="slidenum">
              <a:t>28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s and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luid is any substance that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= force/area    N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n a fluid = h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.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maximum velocity an object can achieve when passing through a fl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weight = upthrust plus the viscous drag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166-1073-4765-AC90-2CA36561076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i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reamline – the path taken by the fl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aminar flow – when the fluid flows smoothly around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urbulent flow – when the flu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es not flow smoothly around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ate of flow of a fluid is related to its viscosity.  Units Pa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kes’ Law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= 6πη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depends o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EB9-DFEC-4293-AA7C-3A7421E591E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 and Pla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last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ormation, the object returns to its original shape and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last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ormation, the object does not returns to its original shape and size, but retains a permanent de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oke’s law   F = k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x  so long as the limit of proportionality is not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.e. graph remain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astic limit – beyond this a permanent extension i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032-36DC-4FAB-8E3A-FA3101AC80C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tching and squ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0560" y="1413000"/>
            <a:ext cx="8504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yond the yield point the material becomes plastic and does not return to its original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ss = force/cross sectional area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in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/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n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ng’s modulus = stress/strain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nsile –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ssive - squ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005-763E-4D93-B31E-FA41BB15AE1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leable – can be hammered into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ctile – can be drawn into w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– difficult to indent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tle – little plastic deformation befor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gh – large plastic region befor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ng – high breaking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ff – large Young’s mod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le – small Young’s mod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8D1-3528-482D-AF10-B56B4FC4333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 strai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1280" y="1125360"/>
            <a:ext cx="82152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stored in a material due to being deformed. 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 area under a force v extension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 F.x  = ½ k.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ergy/unit volume = ½stress.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6EA-E9DA-4C1B-8A21-6027A6650640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875808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aximum displa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ime taken for one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he number of wav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ow fast the wave tra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distance travelled by a wave in one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 = 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24000" y="836640"/>
          <a:ext cx="5148360" cy="33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836640"/>
                    <a:ext cx="5148360" cy="33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FCF-C779-4ECB-8F7C-20C7C5ED9E5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5-12T08:06:14Z</dcterms:modified>
  <cp:revision>69</cp:revision>
  <dc:subject/>
  <dc:title>U4</dc:title>
</cp:coreProperties>
</file>