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CE4-7CFD-44E6-890A-2F71C42C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209-FDBB-4F34-8838-53DC21D6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199-A351-495E-ACC2-4DA90B1D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A7A-0478-4F16-8C25-F47455C7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52F-6B31-4C68-9C97-6D6A879B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C80-A68A-4DDC-B42C-398CDF1C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FA7-AFA7-4891-8D6F-0BB4B0A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093-4617-4959-9746-A1B7009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EA0-9189-489A-B396-9AB393C3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291-A56C-4C92-A56D-E03D681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757-FD86-4236-BFAF-5711F63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08F-28D0-4920-A127-5234EC9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C50E-E9B4-4472-89F9-ECCFE95D8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CEF-0157-4359-8DD0-2CE42668FFDB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ergy is the capacity to do work.  Jo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ork done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distance moved in the direction of th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 = F.s.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avitational potenti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an object has because of its posi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a gravitational field.  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mg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energy an object has because of its velocity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k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m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48A-D409-4391-A678-655731D0C5A8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– the rate at which work is done or energy transfer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work done/time taken    W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energy transferred/tim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7D1-EACC-4202-BE97-578DEE27902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it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– rate of flow of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  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ifference – the energy lost by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 = W/Q 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eries circuit – current the same, voltage sh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allel circuit – voltage the same, current sh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9B0-C781-41A5-855D-12EDF2D7A34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istors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esistors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= 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1/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+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hm’s Law  V =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R for ohmic conductors at constant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-V curves for diode, filament lamp and thermi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tals have a positive temp. co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miconductors have a negative temp. co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BF2-1326-456F-AAF5-38C2BCD0144E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it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wer  P =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I =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R =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R 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nergy = P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time = V×I×t 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MF – electromotive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.d. across the terminals of a source of electricity when there is no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 = V + 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 is the internal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0040" y="2492280"/>
                <a:ext cx="86104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seful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1F9-A448-4C07-B52A-8D7DEC01C234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=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 electron theory of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on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miconductor imp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s charg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istivity ohm.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16360" y="5300640"/>
                <a:ext cx="29048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969-E9B6-41B8-A8F2-AF2C0890737E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484-D049-40F1-BA3F-978642F1DD65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C00-5254-4F01-9D38-96FD3A5EA46E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0DE-6B75-492E-89D0-BE30128677E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096-C9B0-4F5C-9FDF-22161559243C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iform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dimension – no acceler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tance = 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dimension – uniform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= ut + ½a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2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½(v+u)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t - ½a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E45-6EC4-469E-AFD2-5E641906F20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82A-0D1C-4FEE-B94F-7460B7FED459}" type="slidenum">
              <a:t>20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on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ient of displacement time graph is velocity.  (m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a under velocity time graph is dis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ient of velocity time graph is acceleration.  (m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boscope photos, light gate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AE4-E7B8-4E4A-96C0-2ABDBD92F25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jec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rizontal and vertical velocities are in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tical motion is that of gra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rizontal motion is constant assuming no friction or air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tical component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v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orizontal component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v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wher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is between launch and g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15A-3147-4589-87D4-AA0DBFA806F3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ars and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lar – magnitud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ance, speed, wor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ctor – magnitude and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placement, velocity, forc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lution 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v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 v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vc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between vector and 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ythagoras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ctor triangle  (polygon) – scale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217-77E6-491F-8952-6B306F7E7E5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s and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ment =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perpendicula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its N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inciple of Moment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ockwise moments = Anticlockwis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tre of mass – the point through which all of the mass appears to act.   (C of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and stable when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rizontal force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rtical force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ockwise moments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ticlockwis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65A-E03D-41D8-B918-C39F2A8DA27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1.  Acceleration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body continues in its present state of rest or uniform motion in a straight line unless acted upon by a resultan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2.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∑F = m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rate of change of momentum is proportional to the applied force and takes place in the direction of tha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aw 3.  Conservation of momen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every reaction there is an equal and opposit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50A-BAE9-43C0-9F31-53493A0265D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mentum = m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veloc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= mv    N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rvation of moment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mentum before = momentum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ulse = Force ×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v  (Newton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ton 3 - Forces: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 on different bod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me magnitu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 in opposite dir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ADD-9D47-4BBB-9C3E-DA63CD3934A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ss and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 is what you buy – weight is what you carry hom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itational field strength,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= F/m    N.kg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 =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 = acceleration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 = 9.81m.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B89-3E77-4633-B814-F3D234B18278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4-03T09:20:34Z</dcterms:modified>
  <cp:revision>64</cp:revision>
  <dc:subject/>
  <dc:title>U4</dc:title>
</cp:coreProperties>
</file>